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F1CA-45AC-4922-93BB-1673ADC22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0987-82AC-4938-A744-C0D88FDC91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6977044-8E8E-4FF5-8497-ADFCA811CB36}" type="slidenum"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273-5AEC-4281-9D2C-8183CCF7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12F-6502-4819-A11A-1F140850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D10-E2B7-43B8-856C-51A23979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C12-4478-4A29-AED3-D6E1D29A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BCA-508F-4496-96D8-1C71EC7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430-D5D3-4565-A0C2-3B597A34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CC6-811D-4D6A-8D82-F972837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0B7-DD34-42CC-A612-A4904C6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9600" y="-9864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67D-AE00-4F0F-A7C5-5E0B816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B4C-4069-4358-A55F-A11700D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590-C221-4B44-9731-E20609D7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D70-21C8-4FBF-B967-A1138BB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CH JU - Power Poin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7C31-B52E-443E-978B-CA14DF4469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253512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-ig.eu/" TargetMode="External"/><Relationship Id="rId2" Type="http://schemas.openxmlformats.org/officeDocument/2006/relationships/hyperlink" Target="http://www.nerghy.e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7"/>
          <p:cNvSpPr/>
          <p:nvPr/>
        </p:nvSpPr>
        <p:spPr>
          <a:xfrm>
            <a:off x="431640" y="1916280"/>
            <a:ext cx="824076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Membership Opportun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in NEW-IG and N.ERG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2060"/>
                </a:solidFill>
                <a:latin typeface="Arial"/>
              </a:rPr>
              <a:t>Ivana Jemelkova, NEW-IG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2060"/>
                </a:solidFill>
                <a:latin typeface="Arial"/>
              </a:rPr>
              <a:t>Brussels, 10 Jul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843280" y="18900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CH 2 JU Info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NEW-IG logo small"/>
          <p:cNvPicPr/>
          <p:nvPr/>
        </p:nvPicPr>
        <p:blipFill>
          <a:blip r:embed="rId1"/>
          <a:stretch/>
        </p:blipFill>
        <p:spPr>
          <a:xfrm>
            <a:off x="826920" y="2154240"/>
            <a:ext cx="295308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N"/>
          <p:cNvPicPr/>
          <p:nvPr/>
        </p:nvPicPr>
        <p:blipFill>
          <a:blip r:embed="rId2"/>
          <a:stretch/>
        </p:blipFill>
        <p:spPr>
          <a:xfrm>
            <a:off x="5454720" y="2212920"/>
            <a:ext cx="2531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3031920"/>
            <a:ext cx="561672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Engaging with key European stakeholder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increase their understanding and support of FCH technologies and their market deployment</a:t>
            </a: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Helping define the FCH rol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the future EU energy and transport system, voicing FCH sector’s position on EU strategies in other key dossiers (e.g. innovation, budget, environment) </a:t>
            </a: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Increasing visibility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 FCH-related topics through the implementation of a wide range of communication activities and organization of events</a:t>
            </a:r>
            <a:endParaRPr b="0" lang="en-US" sz="17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90E8-DF2F-4560-8771-167408DD849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9880" y="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Shaping EU policies</a:t>
            </a:r>
            <a:endParaRPr b="0" lang="en-US" sz="3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76120" y="2060640"/>
            <a:ext cx="67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EW-IG is advocating to support visibility and influence of FCH topics in Europ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306360" y="260280"/>
            <a:ext cx="208908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://www.new-ig.eu/uploads/ModuleXtender/Photogallery/13/images/high/IMG_5281.jpg"/>
          <p:cNvPicPr/>
          <p:nvPr/>
        </p:nvPicPr>
        <p:blipFill>
          <a:blip r:embed="rId2"/>
          <a:stretch/>
        </p:blipFill>
        <p:spPr>
          <a:xfrm>
            <a:off x="6199200" y="2844720"/>
            <a:ext cx="2747880" cy="1832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new-ig.eu/uploads/ModuleXtender/Photogallery/13/images/high/IMG_5096.jpg"/>
          <p:cNvPicPr/>
          <p:nvPr/>
        </p:nvPicPr>
        <p:blipFill>
          <a:blip r:embed="rId3"/>
          <a:stretch/>
        </p:blipFill>
        <p:spPr>
          <a:xfrm>
            <a:off x="6210360" y="4724280"/>
            <a:ext cx="273672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104840" y="5661000"/>
            <a:ext cx="7058160" cy="6462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IG membership fees</a:t>
            </a:r>
            <a:endParaRPr b="0" lang="en-US" sz="32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6040" y="206064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Arial"/>
              </a:rPr>
              <a:t>NEW-IG members pay annual fees according to company siz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  <a:p>
            <a:pPr marL="126720" indent="-12672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9494-7C2B-4D98-89EC-1BBB555D83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95280" y="5199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or the purposes of this provision, the definition of small and micro-enterprises is the one provided by the EU La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7640" y="2637000"/>
          <a:ext cx="7777080" cy="2408040"/>
        </p:xfrm>
        <a:graphic>
          <a:graphicData uri="http://schemas.openxmlformats.org/drawingml/2006/table">
            <a:tbl>
              <a:tblPr/>
              <a:tblGrid>
                <a:gridCol w="2233800"/>
                <a:gridCol w="2950920"/>
                <a:gridCol w="25923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n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-annual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year commitment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annual fe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8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746280" y="5661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 can further </a:t>
            </a: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reduce their fees up to 50%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ed to standard annual rates by referring new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How to apply?</a:t>
            </a:r>
            <a:endParaRPr b="0" lang="en-US" sz="35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288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194c84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Go to NEW-IG or N.ERGHY website and consult documents (especially Bylaws &amp; Internal Rules)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Complete an application form (available from website)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Send together with signed Bylaws to the relevant Secretariat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buClr>
                <a:srgbClr val="194c84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Contact us if any questions:</a:t>
            </a: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EFC2-E0A1-4766-A7D2-5307F613E0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468360" y="5084640"/>
            <a:ext cx="4032360" cy="1235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b050"/>
                </a:solidFill>
                <a:latin typeface="Arial"/>
              </a:rPr>
              <a:t>NEW-IG Secretari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venue Marnix 23, 1000 Brussels, Belg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el: +32 2 540 87 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ail: secretariat@new-ig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bsite: www.new-ig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716360" y="5084640"/>
            <a:ext cx="4032360" cy="12351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b050"/>
                </a:solidFill>
                <a:latin typeface="Arial"/>
              </a:rPr>
              <a:t>N.ERGHY Secretari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ue du Trône 98, 1050 Brussels, Belg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el: +32 2 500 08 4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ail: secretariat@nerghy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bsite: www.nerghy.eu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9B5-7A97-4CC5-968B-717505302A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39640" y="1989000"/>
            <a:ext cx="8136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About NEW-IG and N.ERGH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Role in system &amp; key benefits of memb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Eligibility and f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How to app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2060"/>
                </a:solidFill>
                <a:latin typeface="Arial"/>
              </a:rPr>
              <a:t>Cont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843280" y="115920"/>
            <a:ext cx="612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Presentation Outli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5"/>
          <p:cNvSpPr/>
          <p:nvPr/>
        </p:nvSpPr>
        <p:spPr>
          <a:xfrm>
            <a:off x="223920" y="1434960"/>
            <a:ext cx="5683320" cy="5203800"/>
          </a:xfrm>
          <a:prstGeom prst="rect">
            <a:avLst/>
          </a:prstGeom>
          <a:solidFill>
            <a:srgbClr val="dce6f2"/>
          </a:solidFill>
          <a:ln w="38160">
            <a:solidFill>
              <a:srgbClr val="0070c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205000" y="2184480"/>
            <a:ext cx="1700280" cy="12621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195640" y="0"/>
            <a:ext cx="6948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 strong European public-private partnership with a focused 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647800" y="2259000"/>
            <a:ext cx="768600" cy="480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30560" y="2766960"/>
            <a:ext cx="169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PGothic"/>
              </a:rPr>
              <a:t>European Union 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MS PGothic"/>
              </a:rPr>
              <a:t>represented by the European Commiss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20840" y="6116760"/>
            <a:ext cx="53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184b8a"/>
                </a:solidFill>
                <a:latin typeface="Arial Narrow"/>
                <a:ea typeface="MS PGothic"/>
              </a:rPr>
              <a:t>The Joint Undertaking is managed by a </a:t>
            </a:r>
            <a:r>
              <a:rPr b="1" lang="en-GB" sz="1300" spc="-1" strike="noStrike" u="sng">
                <a:solidFill>
                  <a:srgbClr val="184b8a"/>
                </a:solidFill>
                <a:uFillTx/>
                <a:latin typeface="Arial Narrow"/>
                <a:ea typeface="MS PGothic"/>
              </a:rPr>
              <a:t>Governing Board</a:t>
            </a:r>
            <a:r>
              <a:rPr b="1" lang="en-GB" sz="1300" spc="-1" strike="noStrike">
                <a:solidFill>
                  <a:srgbClr val="184b8a"/>
                </a:solidFill>
                <a:latin typeface="Arial Narrow"/>
                <a:ea typeface="MS PGothic"/>
              </a:rPr>
              <a:t> </a:t>
            </a:r>
            <a:r>
              <a:rPr b="0" lang="en-GB" sz="1300" spc="-1" strike="noStrike">
                <a:solidFill>
                  <a:srgbClr val="184b8a"/>
                </a:solidFill>
                <a:latin typeface="Arial Narrow"/>
                <a:ea typeface="MS PGothic"/>
              </a:rPr>
              <a:t>composed of representatives of all three partners and lead by the Industry</a:t>
            </a:r>
            <a:r>
              <a:rPr b="0" lang="en-GB" sz="1500" spc="-1" strike="noStrike">
                <a:solidFill>
                  <a:srgbClr val="184b8a"/>
                </a:solidFill>
                <a:latin typeface="Arial Narrow"/>
                <a:ea typeface="MS PGothic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816600" y="1943280"/>
            <a:ext cx="2049480" cy="4601520"/>
          </a:xfrm>
          <a:prstGeom prst="rect">
            <a:avLst/>
          </a:prstGeom>
          <a:solidFill>
            <a:srgbClr val="dce6f2"/>
          </a:solidFill>
          <a:ln w="38160">
            <a:solidFill>
              <a:srgbClr val="0070c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bring to the point of market readiness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rtfolio of clean, efficient and competitive solu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sed on fuel cells and hydrogen technologies in energy and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5e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31920" y="16128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Fuel Cells &amp; Hydrogen 2 Joint Under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iped Right Arrow 18"/>
          <p:cNvSpPr/>
          <p:nvPr/>
        </p:nvSpPr>
        <p:spPr>
          <a:xfrm>
            <a:off x="5999040" y="3127320"/>
            <a:ext cx="876600" cy="2157480"/>
          </a:xfrm>
          <a:custGeom>
            <a:avLst/>
            <a:gdLst/>
            <a:ahLst/>
            <a:rect l="l" t="t" r="r" b="b"/>
            <a:pathLst>
              <a:path w="876300" h="2157413">
                <a:moveTo>
                  <a:pt x="0" y="539353"/>
                </a:moveTo>
                <a:lnTo>
                  <a:pt x="27384" y="539353"/>
                </a:lnTo>
                <a:lnTo>
                  <a:pt x="27384" y="1618060"/>
                </a:lnTo>
                <a:lnTo>
                  <a:pt x="0" y="1618060"/>
                </a:lnTo>
                <a:lnTo>
                  <a:pt x="0" y="539353"/>
                </a:lnTo>
                <a:close/>
                <a:moveTo>
                  <a:pt x="54769" y="539353"/>
                </a:moveTo>
                <a:lnTo>
                  <a:pt x="109538" y="539353"/>
                </a:lnTo>
                <a:lnTo>
                  <a:pt x="109538" y="1618060"/>
                </a:lnTo>
                <a:lnTo>
                  <a:pt x="54769" y="1618060"/>
                </a:lnTo>
                <a:lnTo>
                  <a:pt x="54769" y="539353"/>
                </a:lnTo>
                <a:close/>
                <a:moveTo>
                  <a:pt x="136922" y="539353"/>
                </a:moveTo>
                <a:lnTo>
                  <a:pt x="448709" y="539353"/>
                </a:lnTo>
                <a:lnTo>
                  <a:pt x="448709" y="0"/>
                </a:lnTo>
                <a:lnTo>
                  <a:pt x="876300" y="1078707"/>
                </a:lnTo>
                <a:lnTo>
                  <a:pt x="448709" y="2157413"/>
                </a:lnTo>
                <a:lnTo>
                  <a:pt x="448709" y="1618060"/>
                </a:lnTo>
                <a:lnTo>
                  <a:pt x="136922" y="1618060"/>
                </a:lnTo>
                <a:lnTo>
                  <a:pt x="136922" y="53935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92040" y="2181240"/>
            <a:ext cx="1698840" cy="12621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4003560" y="2190600"/>
            <a:ext cx="1698840" cy="12621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1" descr="M:\2011\Clients\NEW IG\Communications\Logos\NEW-IG logo small.jpg"/>
          <p:cNvPicPr/>
          <p:nvPr/>
        </p:nvPicPr>
        <p:blipFill>
          <a:blip r:embed="rId2"/>
          <a:stretch/>
        </p:blipFill>
        <p:spPr>
          <a:xfrm>
            <a:off x="704880" y="2335320"/>
            <a:ext cx="1058760" cy="40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53880" y="2851200"/>
            <a:ext cx="1756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Industry Group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NEW-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b050"/>
                </a:solidFill>
                <a:latin typeface="Arial"/>
                <a:ea typeface="MS PGothic"/>
              </a:rPr>
              <a:t>76 memb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998880" y="2851200"/>
            <a:ext cx="1755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Research Grouping N.ERG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b050"/>
                </a:solidFill>
                <a:latin typeface="Arial"/>
                <a:ea typeface="MS PGothic"/>
              </a:rPr>
              <a:t>59 memb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sosceles Triangle 41"/>
          <p:cNvSpPr/>
          <p:nvPr/>
        </p:nvSpPr>
        <p:spPr>
          <a:xfrm rot="10800000">
            <a:off x="802800" y="3456000"/>
            <a:ext cx="878040" cy="325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sosceles Triangle 42"/>
          <p:cNvSpPr/>
          <p:nvPr/>
        </p:nvSpPr>
        <p:spPr>
          <a:xfrm rot="10800000">
            <a:off x="4414320" y="3471840"/>
            <a:ext cx="878040" cy="309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8" descr=""/>
          <p:cNvPicPr/>
          <p:nvPr/>
        </p:nvPicPr>
        <p:blipFill>
          <a:blip r:embed="rId3"/>
          <a:stretch/>
        </p:blipFill>
        <p:spPr>
          <a:xfrm>
            <a:off x="407880" y="3801960"/>
            <a:ext cx="2687760" cy="217188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  <p:pic>
        <p:nvPicPr>
          <p:cNvPr id="74" name="Picture 78" descr="N"/>
          <p:cNvPicPr/>
          <p:nvPr/>
        </p:nvPicPr>
        <p:blipFill>
          <a:blip r:embed="rId4"/>
          <a:stretch/>
        </p:blipFill>
        <p:spPr>
          <a:xfrm>
            <a:off x="4313160" y="229716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138480" y="3801960"/>
            <a:ext cx="2631960" cy="21718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018-80EB-4E0E-ABC4-E04A6B3CB5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5" descr=""/>
          <p:cNvPicPr/>
          <p:nvPr/>
        </p:nvPicPr>
        <p:blipFill>
          <a:blip r:embed="rId1"/>
          <a:stretch/>
        </p:blipFill>
        <p:spPr>
          <a:xfrm>
            <a:off x="324000" y="2000160"/>
            <a:ext cx="8582040" cy="4686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908000" y="11592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dustry &amp; research in FCH 2 J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75400" y="64450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525-244B-403A-B769-6FEBE17375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345960" y="13446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70c0"/>
                </a:solidFill>
                <a:latin typeface="Arial"/>
              </a:rPr>
              <a:t>Playing a key role</a:t>
            </a:r>
            <a:r>
              <a:rPr b="1" lang="en-GB" sz="25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mbership access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24253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 u="sng">
                <a:solidFill>
                  <a:srgbClr val="00b050"/>
                </a:solidFill>
                <a:uFillTx/>
                <a:latin typeface="Arial"/>
              </a:rPr>
              <a:t>Membership in both Groupings is open and transparent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All information available on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ew-ig.eu</a:t>
            </a: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 and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nerghy.eu</a:t>
            </a: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 (eligibility, statutes, internal rules etc.)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Great opportunities for both large organisations as well as </a:t>
            </a:r>
            <a:r>
              <a:rPr b="1" lang="en-GB" sz="2200" spc="-1" strike="noStrike" u="sng">
                <a:solidFill>
                  <a:srgbClr val="194c84"/>
                </a:solidFill>
                <a:uFillTx/>
                <a:latin typeface="Arial"/>
              </a:rPr>
              <a:t>SMEs</a:t>
            </a: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 (50% membership of NEW-IG, guaranteed seat in governance of the programme)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194c84"/>
                </a:solidFill>
                <a:latin typeface="Arial"/>
              </a:rPr>
              <a:t>Non-prohibitive fees, discounts for long-term members and those who refer new members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194c84"/>
                </a:solidFill>
                <a:latin typeface="Arial"/>
              </a:rPr>
              <a:t>FCH 2 JU objective: support participation of new members!</a:t>
            </a:r>
            <a:endParaRPr b="0" lang="en-US" sz="2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8158-B3D8-429F-8495-10F770C645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N.ERGHY Membership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3139-7F75-4D9B-BFD2-6544E284F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hteck 4"/>
          <p:cNvSpPr/>
          <p:nvPr/>
        </p:nvSpPr>
        <p:spPr>
          <a:xfrm>
            <a:off x="352440" y="1981080"/>
            <a:ext cx="85406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b050"/>
                </a:solidFill>
                <a:latin typeface="Arial"/>
              </a:rPr>
              <a:t>Simple eligibility crite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blic research organisation or univers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“public” means organisations funded by national or local governments at a rate of at least 33 % of their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-profit organis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linked by affiliation or substantial contractual links to industry (including companies represented in the Industry Grou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is further open to any kind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mbrella organis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entities described above, provided it is legally constituted and has legal capacity under its national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NEW-IG Membership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18D-296B-4FA7-9079-C1F6DF6AA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 4"/>
          <p:cNvSpPr/>
          <p:nvPr/>
        </p:nvSpPr>
        <p:spPr>
          <a:xfrm>
            <a:off x="352440" y="1981080"/>
            <a:ext cx="854064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b050"/>
                </a:solidFill>
                <a:latin typeface="Arial"/>
              </a:rPr>
              <a:t>Simple eligibility crite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i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ablish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 Member State of the European Union or (ii) companies having thei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ed off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entral or principal business location within a State (i) which is a contracting party to the European Economic Area Agreement or (ii) which is an Associated or Candidate Country to the E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ies with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levant activit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R&amp;D, demonstration, industrialization or deployment of hydrogen and fuel cells and/or with concrete plans to do so in the near future within the European Union or the European Economic 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i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aring and supporting the objectiv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FCH (2) J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NEW-IG Board decides on membership applications following an eligibility che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(Body)"/>
              </a:rPr>
              <a:t>Secretariats based in Brussels</a:t>
            </a:r>
            <a:r>
              <a:rPr b="0" lang="en-US" sz="1800" spc="-1" strike="noStrike">
                <a:solidFill>
                  <a:srgbClr val="000000"/>
                </a:solidFill>
                <a:latin typeface="Arial (Body)"/>
              </a:rPr>
              <a:t>, the center of European decision-making and close the FCH 2 JU Programme Offic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ileged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d insight in the activities of the FCH 2 JU and relevant EU developments (e.g. webinars, events, briefings)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(Body)"/>
              </a:rPr>
              <a:t>Up-to-date information</a:t>
            </a:r>
            <a:r>
              <a:rPr b="0" lang="en-US" sz="1800" spc="-1" strike="noStrike">
                <a:solidFill>
                  <a:srgbClr val="000000"/>
                </a:solidFill>
                <a:latin typeface="Arial (Body)"/>
              </a:rPr>
              <a:t> on global developments, activities and events relevant to the sector in weekly reports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(Body)"/>
              </a:rPr>
              <a:t>Tailored communication and advocacy </a:t>
            </a:r>
            <a:r>
              <a:rPr b="0" lang="fr-FR" sz="1800" spc="-1" strike="noStrike">
                <a:solidFill>
                  <a:srgbClr val="000000"/>
                </a:solidFill>
                <a:latin typeface="Arial (Body)"/>
              </a:rPr>
              <a:t>programme</a:t>
            </a:r>
            <a:r>
              <a:rPr b="1" lang="fr-FR" sz="1800" spc="-1" strike="noStrike">
                <a:solidFill>
                  <a:srgbClr val="000000"/>
                </a:solidFill>
                <a:latin typeface="Arial (Body)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(Body)"/>
              </a:rPr>
              <a:t>vis-à-vis EU institutions, key decision-makers and other stakeholders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(Body)"/>
              </a:rPr>
              <a:t>Unique platform for knowledge sharing, exchange and networking </a:t>
            </a:r>
            <a:r>
              <a:rPr b="0" lang="en-US" sz="1800" spc="-1" strike="noStrike">
                <a:solidFill>
                  <a:srgbClr val="000000"/>
                </a:solidFill>
                <a:latin typeface="Arial (Body)"/>
              </a:rPr>
              <a:t>across various segments of the FCH industry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ship sup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question handling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361800" indent="-361800"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403280" y="-171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for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292-9368-417F-A7E5-1D597496EE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Arial"/>
              </a:rPr>
              <a:t>Become a member!</a:t>
            </a:r>
            <a:endParaRPr b="0" lang="en-US" sz="43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412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b050"/>
                </a:solidFill>
                <a:latin typeface="Arial"/>
              </a:rPr>
              <a:t>Enjoy a range of benefits:</a:t>
            </a:r>
            <a:endParaRPr b="0" lang="en-US" sz="26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hap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herent, long-term and business oriented development and demonstration programme for FCH technologies until 2024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nefit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aluable resources made available through the collaboration of FCH 2 JU private and public partners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cces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pport by benefiting from rules of participation applying to FCH 2 JU calls for proposals (“additional conditions”)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potential business partners and interact with decision-makers and stakeholders at EU level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ake advant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services provided by NEW-IG &amp; N.ERGHY Secretariats</a:t>
            </a:r>
            <a:endParaRPr b="0" lang="en-US" sz="18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DBD2-F9C1-4E61-BD99-38A29F7239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00:44Z</dcterms:created>
  <dc:creator>atanami</dc:creator>
  <dc:description/>
  <dc:language>en-US</dc:language>
  <cp:lastModifiedBy>Delplancke Jean Luc ( FCH )</cp:lastModifiedBy>
  <dcterms:modified xsi:type="dcterms:W3CDTF">2014-07-11T12:04:41Z</dcterms:modified>
  <cp:revision>570</cp:revision>
  <dc:subject/>
  <dc:title>Slide 1</dc:title>
</cp:coreProperties>
</file>