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5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5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5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C103-538B-40EC-8526-EA77B1E4A7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B975-D204-450C-9C46-37CD3C026179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6BAB-1699-4FCB-8AF1-4949D030718A}" type="slidenum"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A4F1-251A-4350-8975-8EB577D52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4853-5AA6-47BD-9E12-A49139305DF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B433D-8129-4B91-9CB6-E2076932D2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76A44-7A36-4319-B8B9-6F29A4F7C33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E27C5-1B4F-49AC-BB6C-4DB2C76581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03DA5-E8B7-4B23-8954-1E940C4C6F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A883B-F4A6-437F-B6DF-30A6886F33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2B05B-0BF5-453E-93CA-7371CF8C2F0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488CA-E2AC-44F4-A654-86EA9A09ED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76A17-CCB5-42A1-BA1E-0F0A3B0154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FFFA1-DB49-48D8-AB82-84454B9DDB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0B58-7C3E-4FFC-8B2F-24E34ED16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9FDD-AEE6-4774-A68F-1CDA927B88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12EC-78D5-4089-BF97-6B0C3AC5D8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2235-357F-40B3-A0FE-ADB31BC9F3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CBFC-5BD4-48B9-9ACC-FBB937F523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F802-27AF-430B-BFF9-14828EA20D5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DB9C-CF39-472E-AC7F-797795CD85A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7463-0A63-4B45-8DE3-58FACA7B94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4BF9-878B-4FE4-A009-417B76C6DE6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CB15-DC40-44CD-9B20-C6651EBB4AF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690F-225B-40A0-9683-BE039EFBC9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8B9B-EF12-44D3-BD56-092A01003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DF63-4CCE-4367-A3C1-F37FEBA417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72D6-4E93-4DCD-89E4-AEBFC41D20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7960B-FF0E-4276-AA10-BC1695F3D53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003A1D-4EC3-499D-A351-811190CBE3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1FD433-4578-4B13-ACAC-E2254366B54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BAAF12-E394-4EDE-9842-19C39A0C77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998C3-B2D8-40CA-82B9-7155D1A2348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A30068-3116-41F8-A235-A8F735C3BCA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54150-440B-4293-97F3-8B5A6EFABC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BEF6C-9A53-4456-BD03-B3DF1A995F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B94EB-5516-45DE-998C-CE579DFAE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86F6A-2611-4F5D-86BE-03BD131A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7F55F-DAA7-4A3B-B9ED-265CCD48201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9388D6-B487-429D-8FAC-DABFF6DEE90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BFF4E9-2117-46DB-B177-AC6681751E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190CC-F193-43E4-8760-03121CD39F9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29A96-682E-47AF-BB3E-749CFCE1AF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3CE8F-0BB4-486B-9C6D-6C25F67341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9F337-C972-416A-8753-83A6DDA20DC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FCCE8-C198-4325-AEE8-DF5B7EB997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96ECA-976A-4B8F-8196-84B00A31B40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108BF-EEB9-4DBB-A75B-BBCE60F29F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9EF4E-A633-4A53-ACB8-30C77C7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51439-F6A9-49B6-A714-60C3A92855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5F2C6-5A54-4700-A78A-CEA03BC9B5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DAA7D-5427-46DD-A645-CC9296728DE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30AF0-E224-4E96-9AFF-36CDAD4971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F3EBC-9B4F-4314-B7F5-CE82A00B9AB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FED4-FA11-4E8F-BF34-6F4518DB9A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D9EFB-D2BA-4BEB-A8E3-6DB54C41203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F8C0-9FBA-49D5-8D4B-CB182C6606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2729-759D-4731-A352-1C9FC0DE7E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8C46-1AA6-45F8-811E-ABB9B6D882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426FF-178E-428A-8F69-B8E93484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9F0FF-2489-47A8-A7CA-E696DC1CCB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87F72-C6C2-4317-BDC8-2BD99C5324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4B760-18F5-4409-B660-21071AE68C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1F31-0235-443C-B72B-2EBBCA2B677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BE785-6EED-44E7-8E2C-46A2721E664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1340-475E-40F0-BE16-BBD8279E326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0E38-8A98-4939-B36B-BF3AB88D60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857CD-0E08-4F84-90AB-E9EB71CEB32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B41121-2DB2-4B67-9849-551D8784CA8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2DE7B-658D-47D6-9D0B-7C2C70666F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7674-59AF-4C01-B7E2-5D415498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CDD1F-5EB4-4944-BC93-61E29358A73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2102B8-1074-419C-8C4C-01EB5CDEBC2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85958D-8374-4BEA-A2C1-316C90651BC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623CF-9D25-47C2-B6AA-E393365E7C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A7B38-666A-42B5-9AB3-2534788845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F68562-E06C-49C5-A206-E1FD3C9138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4540F2-BBF8-4336-8AF0-DA6827F18BF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201FEB-B7C9-401F-AD7A-F5A6D034E90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851DBB-FAC6-487F-9F91-F83F2021B4D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38A452-0A53-4D11-AEA7-D23DF40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DE59-4079-4AE6-A480-E21777C5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0E8842-B584-4D6E-8C08-34EDBB7B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33CEFF-8D23-4248-A56F-A47026E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6C8935-E32E-45AD-AC89-262C9DE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390288-F825-408D-8273-82115C11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4962FE-ACE6-40A3-87ED-750B45A4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AE3ACC-1517-4DB7-9D68-6730C85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89E47E-FF28-4E51-98BA-BA2661D3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E03900-A86D-4D07-82D6-88F015B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76F187-42D5-47C9-A356-F996894C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694730-65CF-44F8-8938-08678C1D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00E2E-BE9B-4192-AA6A-D61F244E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F6436-BFD8-49B7-BD10-8F21CEDB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C2BB2-C545-4C26-90AD-2820A6E6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1751D-A62D-414A-8C9F-B77CF67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5DC99-31CA-43C3-A393-5389440D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02DA58-CCCC-4110-997F-A0F98E9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A293D0-46D5-42EF-B335-057DAE7D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DDFF85-30F7-46EE-9F31-8DC9DAFA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1BD1F1-F832-4E01-B010-D0D44BF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43CCEC-DBE4-4AED-9BD6-4242DB61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BDB68B-2047-44EF-9568-CDE3C52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71B32-D4AA-4F0E-993E-A1132FB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111D09-7A38-4858-AFA7-2DB85B12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65C89C-CC6D-4955-87BB-8DA0E8E3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8AD79-7781-4E63-9583-835D97E0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0A84D-17EE-444E-A5B7-BF84417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A1290-1B5D-40F7-BAAD-CEBDD9B9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AF984-B781-4AFF-B92D-BB5483B8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48CFE-0696-43D4-9FB2-491A57E5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CD461-4178-4813-84DA-E881B1FE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A81FC-7610-4DBF-881B-DD60745C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16A5C-ED32-48D9-9061-75517B1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E167-CE27-4915-93D1-B4B9D2214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8ECF-25C5-445C-8E22-52251FA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9A2FD-5D0B-42D7-9502-0A9DBBA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A71E5-9534-4340-B196-E7E53C73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5EE60-B795-4AB1-A1A4-372BB7FF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4D740-0287-4B07-9F1F-4B46A44D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3D442-2C05-4058-B0A7-64604D99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A9BA1-7DFA-481D-86E8-52360825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07A3A-EFD1-430D-A90E-667001C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162C8-426A-454C-8548-87B0C8C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39306-F46C-4053-B99D-EE93B6B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39F01-2C84-4CBC-AB4C-F62A284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0BA97-8AAD-43CC-8B53-11296A49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38BAE-7051-4C5C-8FD0-EB169C37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64358-12A8-4FF5-BE19-21DAD75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23A60-8D31-4EA0-A093-0037293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4A783-B399-4DBD-BAD3-06B26889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248FE-5835-40DB-859F-8270F566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47A5A-D07D-479C-883E-863912B5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1AB83-21ED-4B7C-BDC3-90A74D02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1BF463-7AE0-479B-980A-BACDF729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AAA806-108A-4625-8FE1-B9672D6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5A1695-827B-44AE-8E1A-F4D673EB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D6F43-CB75-42D1-9B06-80E6FBF8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54569D-3DEE-47C6-B8FA-3B33DD3A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D4EC8C-988C-4F96-B475-CDDFB647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9BC73A-6AA8-40FC-94A9-C198D970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361468-01B1-4FD2-A21F-2EE1FDEC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180D98-1872-438E-9638-47502C0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7F8096-B7CA-4FED-93B5-0636113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A0CEED-4416-4BE4-8275-6E4923D2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6DA933-46D8-491F-A5AB-2DF7CC4C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D48552-1078-491E-8AA0-17981247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EA398-9009-4272-8F4C-FFC9EC9F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31729-BD84-452C-B672-16C4A4B6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E1768-138A-4F08-A3B7-7CD65F3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8C6BF-782B-45A1-9231-97BD54DC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20341-6A13-4B7C-8F25-A86C68F4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2AC39-03D1-4F3C-938F-CA319E75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23CD5-D1FB-40DB-810B-E752B001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93816-1070-42D1-B6E1-B74EAEB7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A33A4-8402-4958-9C27-EDC622B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46B99-959B-4D9C-9D1A-386E6A5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FCF48-20AC-4581-9914-D9E3B00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0B653-DC1D-49EF-B4FA-5F868DF0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B52E1-2C84-4287-B518-675E493B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470CF-08D9-4EC5-8A73-F8534507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3DC132-D3AC-43CD-8022-9A55C79E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261096-88BF-4F6D-8F1F-5ADAD6CB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E7F93D-F5FD-4340-82AC-89C5FF7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6C3BEF-6FD7-4A7F-AD95-63959ED3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ED8C84-DA08-4599-95BD-B4D20768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B885CA-2D18-4224-A9E4-0BACC195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C728CD-9A92-4B46-933D-091E8ABC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2036AE-C8DD-4D48-B1F7-3B04A8B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C7F65B-9828-4E02-B4E3-5927B943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12CD9-92C1-4B21-B551-CCEB42724BB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B08F4C-53A5-4659-9964-422C965B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7A421E-1229-4F95-8867-A4A644FE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127929-BE11-4E93-B551-1DC42080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A74F09-E632-4C4D-BFA9-BB05ACFD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8D3BE0-5703-465C-9518-5E6085C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D46A35-EA93-47A8-96AF-ADDF23B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C76A0A-BC7A-4648-9970-78E8609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6216D3-03FE-432A-8F89-E3DC01C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1EE15F-9087-4EF4-8B8A-DF1227EC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E2757B-A3FB-47F4-8838-2C00F10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D46D3-B110-4ED2-8BEC-45F60FABEB3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E616BE-EFDE-4D04-BCBA-1CC59DB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409425-DDA4-4DC9-BB0F-BCC712A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D480EA-D0C3-4184-A46C-4534762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8F9473-3255-445E-A60B-38DF8B65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D4AD06-199A-49C3-ADFC-28032AEE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83CBF4-88D4-48EE-9534-245D547A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0F6C6E-C596-4015-8F61-ECEEF302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CBC85D-4C1B-4AE7-9773-B365D839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9BD160-6CB0-4819-A6B4-F3585CE4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9E1451-56F1-42FE-9B56-83C05EF2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964FB-4697-4B0E-ADA7-7A04268B1EA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3D11C5-405B-417E-81B9-A380A87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F57BC7-8BB5-41F1-B19C-BE049EC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35DAF2-E6A4-4DBC-911E-5A29F0A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2651F7-D25B-4AC0-BC43-6B8AB5FD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AEBEA6-8046-41F3-8A35-200EF69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1BDD62-0B99-4B6C-98CF-63F7C974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99E1EE-0EEA-4CC3-A3D4-BD9347A7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3C1D0F-CF23-428A-B892-15BAF569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7BAE05-7703-49FA-A4EE-CDE430E8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5AEF50-6EC2-4F23-A2A8-767E1FFD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E5A1-D96B-47B7-B99D-C0E39A9739A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52C629-6BFC-40D8-8F93-200915F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F48B6F-B20B-4241-B83C-6049E032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C72515-B40C-42AE-B058-6B30B44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623CF9-55EF-476A-902B-57E5AADE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AF564B-C73B-469A-8A14-0935E9C1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45E65C-64C6-4EC3-A22B-6A86831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63B96A-AF86-4C28-9397-1233DFEB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99A81E-2985-4330-A3B5-4FAAC9C9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D0EF5D-DA23-4628-B461-903BCC32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BA56B9-852D-4C4D-8FD7-C6169D13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F533E-90F2-4347-B358-B57977E3630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BDB233-B2C8-4F6F-B480-3537E3A7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535D9C-DBB1-4E69-9A86-A8BD14D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D5873B-8C6A-438A-8835-52EB88BB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26182F-254C-406D-AD58-880CEA3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337CC8-B2AE-4F9F-9246-2C53D4ED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7222CD-EB87-4597-87B9-231044D8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F32FC1-1868-4359-A300-2BCDE46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62C2B0-AC6C-4328-BE45-1BFA5FB5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8FA0BF-40BE-4471-8B29-7729463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DDEFBD-2E56-4ADF-A963-4096E8F8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E4BA-FCB7-4F32-9E38-59BA47BCEA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828BF-277D-4429-97FE-71841A3BD94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059E17D-D983-4F56-9A38-3D997370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D6BC-225B-4ECA-B1D5-BA73D8272A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9C0EA-136F-4B4D-95DF-B0E19276E2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FBFF5-AA67-47FB-A6D5-C17F469A6B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92F99-7499-44CA-88DC-199C8C5D0D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46F84-419E-4E3F-9E6B-6DD6D7ED87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589CD-F774-4A94-B88B-692971B183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35D4-D0A1-44DD-9471-21AC9D49D2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F090-1B44-423A-B7CB-F5C4485763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379E-7E77-4E5C-8D98-12A63DDF0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8DE6-0957-4B6D-82E2-D1A5E19128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E69-9209-45D5-AA78-1D91C27FD3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A308-A1C1-4336-B20C-8F1452F59B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44D1-2189-4B78-9B50-19ADA6BE2F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E4ED-873E-499A-91B5-3FAF5715CC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C4DF-9107-4E04-B05D-5895140C86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17E4-6934-485B-B430-0E76010A4E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61F2-E1E4-4957-8452-D4C20D3A12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0ED0-954C-4FE4-AA41-53AC1838B5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B147-7F0F-4333-9DF9-67A91C76B7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E10CB-44E4-44D5-BFB8-14EE9AB34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4CC8-B14A-410D-BF57-B550AD6D11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40FF3-1FF1-4A9D-9D38-2C044C31BF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646971-B28D-4292-B2E5-F560EA21F7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E3DD4-1D15-473C-B388-9718D342ED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D437B-36E9-40C3-883C-BA99B3345C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869D3-BBA9-4BAC-80D0-9194D9CAB0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90C4E-FCC0-4B1B-A14E-02F54219D4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3CBA7-6B4D-4842-9935-57BF27F924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6B6F6-5433-4575-A269-AB970D905A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D254F-C5EA-409C-AC08-7CF49E30CB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65FC8-C818-4CB7-B7E8-44657D435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DFC2-A87D-47AC-B06D-E0DA7D77E9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75469-8149-4CB0-80FE-6C53252A16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C1766-B37A-4F59-8836-4E9A52C882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6FFEE-954B-468A-A27C-888FA1085A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B1643-73E1-4520-8D86-D20F965552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60A13-FE72-47B8-9AE3-1DF8F3F3E7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B7281-7F09-4810-8F55-585268502DB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936D0-0D44-47DC-94EB-CCC57BE8D2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BA0F-F011-4628-8606-421CCAB2C0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303F4-AB05-41FA-B438-A0865B900D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BC18C-F066-4FBF-AB15-4987CB985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73E4-3994-4757-ABE3-7A49BBCFAE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D4177-9623-49DE-8DCF-C7A2CE28BC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E325E-29FA-4602-A6FE-72A04396DA3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E08E3-094B-44F9-BF0E-29A1C9E362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7C67-109F-4583-87A6-E4526CFF82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8168-C803-4C26-B0B6-023DC9E8F7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9535-3747-4767-A85C-208281055D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274E-7750-4491-8F4F-4BAF5391B81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AED4-1F44-4A9E-A792-DFBFAFA2CC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95B9-800F-4713-96D9-DE99A1D73A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F0E6-602A-4029-9C11-2C7278994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30FD-5188-4101-8464-DCCA273709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8EC2-1EB1-4428-A242-D9E2BEA128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9E70-2BA0-4C7F-8D7B-14517F94BF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EFD3-B4EA-47E7-AB09-583E1A3135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8794-AAD8-4CF7-8014-6FD2207168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910E-8232-4B40-A50B-4E54033F93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21904-54EE-4E0E-A3FE-A6CA77DDF7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29415-2E2B-4A46-8185-015313081D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06864-D867-481F-B10C-A80DBDD781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A84EC-4987-4750-A8FD-970F078A020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1D0B7-F3B8-42F9-9E28-B11E4A1AC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9FFC-9715-4BE2-B9B3-0439FB2CB0B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EF765-3494-4B7A-BBA8-AE96756BF1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47AA3-57F4-49BA-85DE-9C38AB0A2F4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742FD-F4F9-453C-9537-6FA1B975B97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000A2-6C46-4A5A-903D-09EDFCBE09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B05E3-B61B-40B5-9135-5053DE52FE2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9C35A-703E-49B7-93A0-CA5D0542E1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537B1-F393-431E-BFD6-9829C21B4D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D0A78-66CA-462B-8CD9-1D2237D4E2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3EDD6-6402-49BC-9184-6C84F37516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D95E9-D8AE-4668-9B24-3BC6D1460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3"/>
          <a:stretch/>
        </p:blipFill>
        <p:spPr>
          <a:xfrm>
            <a:off x="5796000" y="115920"/>
            <a:ext cx="320364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5"/>
          <p:cNvSpPr/>
          <p:nvPr/>
        </p:nvSpPr>
        <p:spPr>
          <a:xfrm>
            <a:off x="2535120" y="50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4"/>
          <a:stretch/>
        </p:blipFill>
        <p:spPr>
          <a:xfrm>
            <a:off x="8244000" y="692280"/>
            <a:ext cx="399960" cy="27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"/>
          <p:cNvPicPr/>
          <p:nvPr/>
        </p:nvPicPr>
        <p:blipFill>
          <a:blip r:embed="rId5"/>
          <a:stretch/>
        </p:blipFill>
        <p:spPr>
          <a:xfrm>
            <a:off x="5796000" y="115920"/>
            <a:ext cx="320364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2535120" y="50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6"/>
          <a:stretch/>
        </p:blipFill>
        <p:spPr>
          <a:xfrm>
            <a:off x="8244000" y="692280"/>
            <a:ext cx="399960" cy="277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B3B5-CB3E-4133-A8FE-FA31AD6EB8DC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F96-5D89-4B86-ACE0-6E96EFE03C77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B87B-DE4D-4F2C-B933-5A8F67E250CC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DD65-6254-4C15-A5FC-C754C546AA79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86FB-E864-48DD-B007-77C7167EDAA0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F16-4EE3-4DB0-AA04-3DC75549310B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CF4-8EF8-4D68-9ECE-1AFAD1C2A4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295-883B-435E-94B4-A55612888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C143-21E7-4CAB-99AD-5F335767BE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5BD2-55AB-4A39-AE50-AFEEF2B67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C98-E1ED-47CB-B6AF-ACF3C765C2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CCD6-9618-40E3-B5C6-F1EC46D098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F4CB-EEAC-476D-B53B-9890CC1C35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8D06-64C2-4997-89C8-C69B4CC659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9F4E-99CC-4A03-A7B8-6B2378FB1A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0083-2016-4A78-A3D0-868EA7F1C1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7C87E-10DE-4D81-BB3B-F1C769AB9E9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082E4-8EF4-4F34-A83C-66F1045B88D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FCH JU - Power Point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9E03-449D-4AFC-8711-939D0EC0FD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B00-F29E-4C60-BA17-F641128CAC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8A7-A501-4EEA-A04E-C3BA5B1B19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2797-E53D-44A8-8960-D5727510E7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5993-2975-4EF7-9310-7D0D3BE79B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CF5-D229-4681-9AF0-E5DC860A2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56F-4C58-4CCC-A583-F161DEA38C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713F-F34B-4F0D-A725-8C80AD142F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2C43-E8A3-472B-8BB4-53512ED1D6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A59A-290E-4C60-95CA-EE0DE16E7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B68F-6D91-43B2-84C2-964002A4A5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A9D-D990-4FE7-AA8B-CA0A891E2D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267-EB67-4445-9DE8-3AD2AE6B7C7D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6B0-F5D2-4EFD-9F1F-1574FD880E65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 Unicode MS"/>
              </a:rPr>
              <a:t>Click to edit the outline text format</a:t>
            </a: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345E-F6B2-4430-9C2D-9C757EF763FC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428C-4984-433D-BD78-E681553CEF6C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0EF5-39D0-49CE-9DDD-6618D8DB8034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88EF-FA6B-44F6-B2F4-7320E58F58F1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23A-A3D9-4A3F-A00E-A0173161B98B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Image 4" descr="530C_SLIDE_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0" name="TextBox 7"/>
          <p:cNvSpPr/>
          <p:nvPr/>
        </p:nvSpPr>
        <p:spPr>
          <a:xfrm>
            <a:off x="1163520" y="3621240"/>
            <a:ext cx="53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c84"/>
                </a:solidFill>
                <a:latin typeface="Trebuchet MS"/>
                <a:ea typeface="ヒラギノ角ゴ Pro W3"/>
              </a:rPr>
              <a:t>Communication campaig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Third par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1" name="TextBox 1"/>
          <p:cNvSpPr/>
          <p:nvPr/>
        </p:nvSpPr>
        <p:spPr>
          <a:xfrm>
            <a:off x="5041800" y="6006960"/>
            <a:ext cx="41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Nicolas Brah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Legal And Contractual Officer FCH JU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BA63-116D-4767-A045-F650AB089A30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30240" y="1125360"/>
            <a:ext cx="90057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-28584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9999"/>
                </a:solidFill>
                <a:latin typeface="Arial Unicode MS"/>
              </a:rPr>
              <a:t>How to declare the costs </a:t>
            </a:r>
            <a:r>
              <a:rPr b="0" lang="fr-BE" sz="2000" spc="-1" strike="noStrike">
                <a:solidFill>
                  <a:srgbClr val="009999"/>
                </a:solidFill>
                <a:latin typeface="Arial Unicode MS"/>
              </a:rPr>
              <a:t>?</a:t>
            </a:r>
            <a:endParaRPr b="0" i="1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2060"/>
                </a:solidFill>
                <a:latin typeface="Arial Unicode MS"/>
              </a:rPr>
              <a:t>Costs to be declared by beneficiary in its form C as « other costs 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2060"/>
                </a:solidFill>
                <a:latin typeface="Arial Unicode MS"/>
              </a:rPr>
              <a:t>Costs must reflect percentage of use in the projec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2060"/>
                </a:solidFill>
                <a:latin typeface="Arial Unicode MS"/>
              </a:rPr>
              <a:t>Costs must reflect depreci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title"/>
          </p:nvPr>
        </p:nvSpPr>
        <p:spPr>
          <a:xfrm>
            <a:off x="20520" y="188640"/>
            <a:ext cx="8578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6. Supplier of equipment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Slide Number Placeholder 2"/>
          <p:cNvSpPr/>
          <p:nvPr/>
        </p:nvSpPr>
        <p:spPr>
          <a:xfrm>
            <a:off x="9612360" y="5832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BCC3-D6AE-457D-9682-F9FF32DBDBB0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27" name="Diagram 3" descr=""/>
          <p:cNvPicPr/>
          <p:nvPr/>
        </p:nvPicPr>
        <p:blipFill>
          <a:blip r:embed="rId1"/>
          <a:stretch/>
        </p:blipFill>
        <p:spPr>
          <a:xfrm>
            <a:off x="176040" y="324000"/>
            <a:ext cx="38894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028" name="Group 9"/>
          <p:cNvGrpSpPr/>
          <p:nvPr/>
        </p:nvGrpSpPr>
        <p:grpSpPr>
          <a:xfrm>
            <a:off x="4572000" y="1063800"/>
            <a:ext cx="1617840" cy="1042920"/>
            <a:chOff x="4572000" y="1063800"/>
            <a:chExt cx="1617840" cy="1042920"/>
          </a:xfrm>
        </p:grpSpPr>
        <p:sp>
          <p:nvSpPr>
            <p:cNvPr id="1029" name="Rounded Rectangle 10"/>
            <p:cNvSpPr/>
            <p:nvPr/>
          </p:nvSpPr>
          <p:spPr>
            <a:xfrm>
              <a:off x="4572000" y="1063800"/>
              <a:ext cx="1617840" cy="10429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0" name="Rounded Rectangle 4"/>
            <p:cNvSpPr/>
            <p:nvPr/>
          </p:nvSpPr>
          <p:spPr>
            <a:xfrm>
              <a:off x="4622760" y="1114560"/>
              <a:ext cx="138924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 Unicode MS"/>
                </a:rPr>
                <a:t>Affliliate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 Unicode MS"/>
                </a:rPr>
                <a:t>With SC 11 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31" name="Group 12"/>
          <p:cNvGrpSpPr/>
          <p:nvPr/>
        </p:nvGrpSpPr>
        <p:grpSpPr>
          <a:xfrm>
            <a:off x="4840200" y="4189320"/>
            <a:ext cx="1670040" cy="1042920"/>
            <a:chOff x="4840200" y="4189320"/>
            <a:chExt cx="1670040" cy="1042920"/>
          </a:xfrm>
        </p:grpSpPr>
        <p:sp>
          <p:nvSpPr>
            <p:cNvPr id="1032" name="Rounded Rectangle 13"/>
            <p:cNvSpPr/>
            <p:nvPr/>
          </p:nvSpPr>
          <p:spPr>
            <a:xfrm>
              <a:off x="4840200" y="4189320"/>
              <a:ext cx="1670040" cy="10429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3" name="Rounded Rectangle 4"/>
            <p:cNvSpPr/>
            <p:nvPr/>
          </p:nvSpPr>
          <p:spPr>
            <a:xfrm>
              <a:off x="4892400" y="4240080"/>
              <a:ext cx="1565280" cy="94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 Unicode MS"/>
                </a:rPr>
                <a:t>Affliliate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pic>
        <p:nvPicPr>
          <p:cNvPr id="1034" name="Group 15" descr=""/>
          <p:cNvPicPr/>
          <p:nvPr/>
        </p:nvPicPr>
        <p:blipFill>
          <a:blip r:embed="rId2"/>
          <a:stretch/>
        </p:blipFill>
        <p:spPr>
          <a:xfrm>
            <a:off x="2901960" y="4187880"/>
            <a:ext cx="1670040" cy="1042920"/>
          </a:xfrm>
          <a:prstGeom prst="rect">
            <a:avLst/>
          </a:prstGeom>
          <a:ln w="0">
            <a:noFill/>
          </a:ln>
        </p:spPr>
      </p:pic>
      <p:sp>
        <p:nvSpPr>
          <p:cNvPr id="1035" name="Straight Connector 19"/>
          <p:cNvSpPr/>
          <p:nvPr/>
        </p:nvSpPr>
        <p:spPr>
          <a:xfrm>
            <a:off x="0" y="3525840"/>
            <a:ext cx="914400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6" name="TextBox 20"/>
          <p:cNvSpPr/>
          <p:nvPr/>
        </p:nvSpPr>
        <p:spPr>
          <a:xfrm>
            <a:off x="7213680" y="30909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 Unicode MS"/>
              </a:rPr>
              <a:t>Within consortium</a:t>
            </a:r>
            <a:r>
              <a:rPr b="0" lang="en-GB" sz="1800" spc="-1" strike="noStrike">
                <a:solidFill>
                  <a:srgbClr val="0066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7" name="TextBox 21"/>
          <p:cNvSpPr/>
          <p:nvPr/>
        </p:nvSpPr>
        <p:spPr>
          <a:xfrm>
            <a:off x="7192800" y="34815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Out of consortium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8" name="U-Turn Arrow 22"/>
          <p:cNvSpPr/>
          <p:nvPr/>
        </p:nvSpPr>
        <p:spPr>
          <a:xfrm>
            <a:off x="3276720" y="692280"/>
            <a:ext cx="460080" cy="371520"/>
          </a:xfrm>
          <a:custGeom>
            <a:avLst/>
            <a:gdLst/>
            <a:ahLst/>
            <a:rect l="l" t="t" r="r" b="b"/>
            <a:pathLst>
              <a:path w="460375" h="371475">
                <a:moveTo>
                  <a:pt x="0" y="371475"/>
                </a:moveTo>
                <a:lnTo>
                  <a:pt x="0" y="162520"/>
                </a:lnTo>
                <a:cubicBezTo>
                  <a:pt x="0" y="72763"/>
                  <a:pt x="72763" y="0"/>
                  <a:pt x="162520" y="0"/>
                </a:cubicBezTo>
                <a:lnTo>
                  <a:pt x="251420" y="0"/>
                </a:lnTo>
                <a:cubicBezTo>
                  <a:pt x="341177" y="0"/>
                  <a:pt x="413940" y="72763"/>
                  <a:pt x="413940" y="162520"/>
                </a:cubicBezTo>
                <a:cubicBezTo>
                  <a:pt x="413940" y="170259"/>
                  <a:pt x="413941" y="177999"/>
                  <a:pt x="413941" y="185738"/>
                </a:cubicBezTo>
                <a:lnTo>
                  <a:pt x="460375" y="185738"/>
                </a:lnTo>
                <a:lnTo>
                  <a:pt x="367506" y="278606"/>
                </a:lnTo>
                <a:lnTo>
                  <a:pt x="274638" y="185738"/>
                </a:lnTo>
                <a:lnTo>
                  <a:pt x="321072" y="185738"/>
                </a:lnTo>
                <a:lnTo>
                  <a:pt x="321072" y="162520"/>
                </a:lnTo>
                <a:cubicBezTo>
                  <a:pt x="321072" y="124052"/>
                  <a:pt x="289888" y="92868"/>
                  <a:pt x="251420" y="92868"/>
                </a:cubicBezTo>
                <a:lnTo>
                  <a:pt x="162520" y="92869"/>
                </a:lnTo>
                <a:cubicBezTo>
                  <a:pt x="124052" y="92869"/>
                  <a:pt x="92868" y="124053"/>
                  <a:pt x="92868" y="162521"/>
                </a:cubicBezTo>
                <a:cubicBezTo>
                  <a:pt x="92868" y="232172"/>
                  <a:pt x="92869" y="301824"/>
                  <a:pt x="92869" y="371475"/>
                </a:cubicBezTo>
                <a:lnTo>
                  <a:pt x="0" y="371475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1039" name="Straight Arrow Connector 24"/>
          <p:cNvCxnSpPr>
            <a:endCxn id="1029" idx="1"/>
          </p:cNvCxnSpPr>
          <p:nvPr/>
        </p:nvCxnSpPr>
        <p:spPr>
          <a:xfrm>
            <a:off x="3995280" y="1585440"/>
            <a:ext cx="57708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40" name="Straight Arrow Connector 25"/>
          <p:cNvCxnSpPr/>
          <p:nvPr/>
        </p:nvCxnSpPr>
        <p:spPr>
          <a:xfrm>
            <a:off x="3819240" y="2055960"/>
            <a:ext cx="1561320" cy="2134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41" name="Straight Arrow Connector 26"/>
          <p:cNvCxnSpPr/>
          <p:nvPr/>
        </p:nvCxnSpPr>
        <p:spPr>
          <a:xfrm>
            <a:off x="3506400" y="2106360"/>
            <a:ext cx="1080" cy="2083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42" name="Straight Arrow Connector 30"/>
          <p:cNvCxnSpPr/>
          <p:nvPr/>
        </p:nvCxnSpPr>
        <p:spPr>
          <a:xfrm flipH="1">
            <a:off x="1186920" y="1585440"/>
            <a:ext cx="122472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43" name="U-Turn Arrow 35"/>
          <p:cNvSpPr/>
          <p:nvPr/>
        </p:nvSpPr>
        <p:spPr>
          <a:xfrm>
            <a:off x="395280" y="6021360"/>
            <a:ext cx="431640" cy="287280"/>
          </a:xfrm>
          <a:custGeom>
            <a:avLst/>
            <a:gdLst/>
            <a:ahLst/>
            <a:rect l="l" t="t" r="r" b="b"/>
            <a:pathLst>
              <a:path w="431800" h="287337">
                <a:moveTo>
                  <a:pt x="0" y="287337"/>
                </a:moveTo>
                <a:lnTo>
                  <a:pt x="0" y="125710"/>
                </a:lnTo>
                <a:cubicBezTo>
                  <a:pt x="0" y="56282"/>
                  <a:pt x="56282" y="0"/>
                  <a:pt x="125710" y="0"/>
                </a:cubicBezTo>
                <a:lnTo>
                  <a:pt x="270173" y="0"/>
                </a:lnTo>
                <a:cubicBezTo>
                  <a:pt x="339601" y="0"/>
                  <a:pt x="395883" y="56282"/>
                  <a:pt x="395883" y="125710"/>
                </a:cubicBezTo>
                <a:lnTo>
                  <a:pt x="395883" y="143669"/>
                </a:lnTo>
                <a:lnTo>
                  <a:pt x="431800" y="143669"/>
                </a:lnTo>
                <a:lnTo>
                  <a:pt x="359966" y="215503"/>
                </a:lnTo>
                <a:lnTo>
                  <a:pt x="288132" y="143669"/>
                </a:lnTo>
                <a:lnTo>
                  <a:pt x="324049" y="143669"/>
                </a:lnTo>
                <a:lnTo>
                  <a:pt x="324049" y="125710"/>
                </a:lnTo>
                <a:cubicBezTo>
                  <a:pt x="324049" y="95955"/>
                  <a:pt x="299928" y="71834"/>
                  <a:pt x="270173" y="71834"/>
                </a:cubicBezTo>
                <a:lnTo>
                  <a:pt x="125710" y="71834"/>
                </a:lnTo>
                <a:cubicBezTo>
                  <a:pt x="95955" y="71834"/>
                  <a:pt x="71834" y="95955"/>
                  <a:pt x="71834" y="125710"/>
                </a:cubicBezTo>
                <a:lnTo>
                  <a:pt x="71834" y="287337"/>
                </a:lnTo>
                <a:lnTo>
                  <a:pt x="0" y="287337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4" name="TextBox 36"/>
          <p:cNvSpPr/>
          <p:nvPr/>
        </p:nvSpPr>
        <p:spPr>
          <a:xfrm>
            <a:off x="939960" y="5940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 Unicode MS"/>
              </a:rPr>
              <a:t>Builds itself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1045" name="Straight Arrow Connector 37"/>
          <p:cNvCxnSpPr/>
          <p:nvPr/>
        </p:nvCxnSpPr>
        <p:spPr>
          <a:xfrm>
            <a:off x="324000" y="6668640"/>
            <a:ext cx="57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46" name="TextBox 38"/>
          <p:cNvSpPr/>
          <p:nvPr/>
        </p:nvSpPr>
        <p:spPr>
          <a:xfrm>
            <a:off x="988920" y="6461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 Unicode MS"/>
              </a:rPr>
              <a:t>Purchases from </a:t>
            </a:r>
            <a:r>
              <a:rPr b="0" lang="en-GB" sz="1800" spc="-1" strike="noStrike">
                <a:solidFill>
                  <a:srgbClr val="0066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7" name="U-Turn Arrow 39"/>
          <p:cNvSpPr/>
          <p:nvPr/>
        </p:nvSpPr>
        <p:spPr>
          <a:xfrm>
            <a:off x="5149800" y="681120"/>
            <a:ext cx="461880" cy="369720"/>
          </a:xfrm>
          <a:custGeom>
            <a:avLst/>
            <a:gdLst/>
            <a:ahLst/>
            <a:rect l="l" t="t" r="r" b="b"/>
            <a:pathLst>
              <a:path w="461963" h="369887">
                <a:moveTo>
                  <a:pt x="0" y="369887"/>
                </a:moveTo>
                <a:lnTo>
                  <a:pt x="0" y="184944"/>
                </a:lnTo>
                <a:cubicBezTo>
                  <a:pt x="0" y="82802"/>
                  <a:pt x="82802" y="0"/>
                  <a:pt x="184944" y="0"/>
                </a:cubicBezTo>
                <a:lnTo>
                  <a:pt x="230784" y="0"/>
                </a:lnTo>
                <a:cubicBezTo>
                  <a:pt x="332926" y="0"/>
                  <a:pt x="415728" y="82802"/>
                  <a:pt x="415728" y="184944"/>
                </a:cubicBezTo>
                <a:lnTo>
                  <a:pt x="415727" y="184944"/>
                </a:lnTo>
                <a:lnTo>
                  <a:pt x="461963" y="184944"/>
                </a:lnTo>
                <a:lnTo>
                  <a:pt x="369491" y="277415"/>
                </a:lnTo>
                <a:lnTo>
                  <a:pt x="277020" y="184944"/>
                </a:lnTo>
                <a:lnTo>
                  <a:pt x="323255" y="184944"/>
                </a:lnTo>
                <a:lnTo>
                  <a:pt x="323255" y="184944"/>
                </a:lnTo>
                <a:cubicBezTo>
                  <a:pt x="323255" y="133873"/>
                  <a:pt x="281854" y="92472"/>
                  <a:pt x="230783" y="92472"/>
                </a:cubicBezTo>
                <a:lnTo>
                  <a:pt x="184944" y="92472"/>
                </a:lnTo>
                <a:cubicBezTo>
                  <a:pt x="133873" y="92472"/>
                  <a:pt x="92472" y="133873"/>
                  <a:pt x="92472" y="184944"/>
                </a:cubicBezTo>
                <a:lnTo>
                  <a:pt x="92472" y="369887"/>
                </a:lnTo>
                <a:lnTo>
                  <a:pt x="0" y="369887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48" name="Picture 2" descr="Attention, focus, adhd, add, adhd app, adhd treatment, add treatment"/>
          <p:cNvPicPr/>
          <p:nvPr/>
        </p:nvPicPr>
        <p:blipFill>
          <a:blip r:embed="rId3"/>
          <a:stretch/>
        </p:blipFill>
        <p:spPr>
          <a:xfrm>
            <a:off x="4008600" y="1193760"/>
            <a:ext cx="372960" cy="324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Attention, focus, adhd, add, adhd app, adhd treatment, add treatment"/>
          <p:cNvPicPr/>
          <p:nvPr/>
        </p:nvPicPr>
        <p:blipFill>
          <a:blip r:embed="rId4"/>
          <a:stretch/>
        </p:blipFill>
        <p:spPr>
          <a:xfrm>
            <a:off x="1555920" y="1187280"/>
            <a:ext cx="374400" cy="324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2" descr="Attention, focus, adhd, add, adhd app, adhd treatment, add treatment"/>
          <p:cNvPicPr/>
          <p:nvPr/>
        </p:nvPicPr>
        <p:blipFill>
          <a:blip r:embed="rId5"/>
          <a:stretch/>
        </p:blipFill>
        <p:spPr>
          <a:xfrm>
            <a:off x="4622760" y="2847960"/>
            <a:ext cx="374760" cy="3240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Attention, focus, adhd, add, adhd app, adhd treatment, add treatment"/>
          <p:cNvPicPr/>
          <p:nvPr/>
        </p:nvPicPr>
        <p:blipFill>
          <a:blip r:embed="rId6"/>
          <a:stretch/>
        </p:blipFill>
        <p:spPr>
          <a:xfrm>
            <a:off x="6329520" y="6516720"/>
            <a:ext cx="374400" cy="325440"/>
          </a:xfrm>
          <a:prstGeom prst="rect">
            <a:avLst/>
          </a:prstGeom>
          <a:ln w="0">
            <a:noFill/>
          </a:ln>
        </p:spPr>
      </p:pic>
      <p:sp>
        <p:nvSpPr>
          <p:cNvPr id="1052" name="TextBox 47"/>
          <p:cNvSpPr/>
          <p:nvPr/>
        </p:nvSpPr>
        <p:spPr>
          <a:xfrm>
            <a:off x="6689880" y="6461280"/>
            <a:ext cx="234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dditional /information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996-1A03-4F5C-B189-E4C1000E107E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34920" y="41040"/>
            <a:ext cx="51260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34ea2"/>
                </a:solidFill>
                <a:latin typeface="Arial Unicode MS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Receipt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Arial Unicode MS"/>
                <a:ea typeface="SimSun"/>
              </a:rPr>
              <a:t>The non profit principle</a:t>
            </a:r>
            <a:endParaRPr b="0" i="1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 Unicode MS"/>
                <a:ea typeface="SimSun"/>
              </a:rPr>
              <a:t>Three kinds of receipts must be taken into account</a:t>
            </a: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lvl="1" marL="1031400" indent="-51156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c8c93"/>
                </a:solidFill>
                <a:latin typeface="Arial Unicode MS"/>
                <a:ea typeface="SimSun"/>
              </a:rPr>
              <a:t>Transfers from third parties </a:t>
            </a:r>
            <a:r>
              <a:rPr b="0" lang="en-GB" sz="2000" spc="-1" strike="noStrike">
                <a:solidFill>
                  <a:srgbClr val="002060"/>
                </a:solidFill>
                <a:latin typeface="Arial Unicode MS"/>
                <a:ea typeface="SimSun"/>
              </a:rPr>
              <a:t>to the beneficiary</a:t>
            </a:r>
            <a:r>
              <a:rPr b="0" lang="en-GB" sz="2400" spc="-1" strike="noStrike">
                <a:solidFill>
                  <a:srgbClr val="002060"/>
                </a:solidFill>
                <a:latin typeface="Arial Unicode MS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16520" indent="-438840">
              <a:lnSpc>
                <a:spcPct val="80000"/>
              </a:lnSpc>
              <a:spcBef>
                <a:spcPts val="400"/>
              </a:spcBef>
              <a:buClr>
                <a:srgbClr val="c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  <a:ea typeface="SimSun"/>
              </a:rPr>
              <a:t>if specifically attributed to the project and not reimburse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16520" indent="-438840">
              <a:lnSpc>
                <a:spcPct val="80000"/>
              </a:lnSpc>
              <a:spcBef>
                <a:spcPts val="400"/>
              </a:spcBef>
              <a:buClr>
                <a:srgbClr val="c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Financial transfers and contributions in kin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94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31400" indent="-511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c8c93"/>
                </a:solidFill>
                <a:latin typeface="Arial Unicode MS"/>
                <a:ea typeface="SimSun"/>
              </a:rPr>
              <a:t>Income generated by the project </a:t>
            </a:r>
            <a:r>
              <a:rPr b="0" lang="fr-BE" sz="2000" spc="-1" strike="noStrike">
                <a:solidFill>
                  <a:srgbClr val="002060"/>
                </a:solidFill>
                <a:latin typeface="Arial Unicode MS"/>
              </a:rPr>
              <a:t>	</a:t>
            </a:r>
            <a:r>
              <a:rPr b="0" lang="fr-BE" sz="2000" spc="-1" strike="noStrike">
                <a:solidFill>
                  <a:srgbClr val="00206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16520" indent="-438840">
              <a:lnSpc>
                <a:spcPct val="80000"/>
              </a:lnSpc>
              <a:spcBef>
                <a:spcPts val="400"/>
              </a:spcBef>
              <a:buClr>
                <a:srgbClr val="c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  <a:ea typeface="SimSun"/>
              </a:rPr>
              <a:t>but not income generated by the use of foregroun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94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31400" indent="-511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c8c93"/>
                </a:solidFill>
                <a:latin typeface="Arial Unicode MS"/>
                <a:ea typeface="SimSun"/>
              </a:rPr>
              <a:t>Interest generated by the pre-financing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16520" indent="-438840">
              <a:lnSpc>
                <a:spcPct val="80000"/>
              </a:lnSpc>
              <a:spcBef>
                <a:spcPts val="400"/>
              </a:spcBef>
              <a:buClr>
                <a:srgbClr val="c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  <a:ea typeface="SimSun"/>
              </a:rPr>
              <a:t>on account of coordinators ,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16520" indent="-438840">
              <a:lnSpc>
                <a:spcPct val="80000"/>
              </a:lnSpc>
              <a:spcBef>
                <a:spcPts val="400"/>
              </a:spcBef>
              <a:buClr>
                <a:srgbClr val="c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  <a:ea typeface="SimSun"/>
              </a:rPr>
              <a:t>related to other beneficiaries shar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316520" indent="-438840">
              <a:lnSpc>
                <a:spcPct val="80000"/>
              </a:lnSpc>
              <a:spcBef>
                <a:spcPts val="400"/>
              </a:spcBef>
              <a:buClr>
                <a:srgbClr val="c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≠</a:t>
            </a:r>
            <a:r>
              <a:rPr b="0" lang="en-GB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FP7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3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ff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 Unicode MS"/>
                <a:ea typeface="SimSun"/>
              </a:rPr>
              <a:t>At final payment the FCH JU contribution will take into account any receipts of the project </a:t>
            </a:r>
            <a:endParaRPr b="0" i="1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lvl="1" marL="1031400" indent="-51156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For </a:t>
            </a:r>
            <a:r>
              <a:rPr b="0" lang="en-GB" sz="1800" spc="-1" strike="noStrike" u="sng">
                <a:solidFill>
                  <a:srgbClr val="002060"/>
                </a:solidFill>
                <a:uFillTx/>
                <a:latin typeface="Arial Unicode MS"/>
                <a:ea typeface="SimSun"/>
              </a:rPr>
              <a:t>each</a:t>
            </a: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 beneficiary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31400" indent="-51156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the eligible costs ≥ FCH JU contribution + the receipts for the projec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C6C0-A498-4587-AFD9-DD11063331C1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55640" y="7560"/>
            <a:ext cx="7920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Third parties &amp; other sensitive relations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50560" y="1292040"/>
            <a:ext cx="871380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ff"/>
              </a:solidFill>
              <a:latin typeface="Arial Unicode MS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250920" y="1773360"/>
          <a:ext cx="8569080" cy="4751280"/>
        </p:xfrm>
        <a:graphic>
          <a:graphicData uri="http://schemas.openxmlformats.org/drawingml/2006/table">
            <a:tbl>
              <a:tblPr/>
              <a:tblGrid>
                <a:gridCol w="3600360"/>
                <a:gridCol w="496872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Link with the proj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Legal situ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rry out the projects 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ore tas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Arial Unicode MS"/>
                        </a:rPr>
                        <a:t>1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. Beneficia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67068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rry out ancillary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Arial Unicode MS"/>
                        </a:rPr>
                        <a:t>2.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third pary working as a sub-contr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7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Arial Unicode MS"/>
                        </a:rPr>
                        <a:t>3.</a:t>
                      </a:r>
                      <a:r>
                        <a:rPr b="1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third party linked to a beneficiary working under special clause 11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7068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ive access to so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sources  (staff, la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Arial Unicode MS"/>
                        </a:rPr>
                        <a:t>4.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third party making available ressources f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5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Arial Unicode MS"/>
                        </a:rPr>
                        <a:t>5.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third party making available ressources and being reimbursed by the benefici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ll (lease) equi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Arial Unicode MS"/>
                        </a:rPr>
                        <a:t>6.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A suppli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996" name="Straight Arrow Connector 4"/>
          <p:cNvCxnSpPr/>
          <p:nvPr/>
        </p:nvCxnSpPr>
        <p:spPr>
          <a:xfrm flipV="1">
            <a:off x="2987280" y="3119040"/>
            <a:ext cx="864360" cy="28800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7" name="Straight Arrow Connector 8"/>
          <p:cNvCxnSpPr/>
          <p:nvPr/>
        </p:nvCxnSpPr>
        <p:spPr>
          <a:xfrm>
            <a:off x="2987280" y="3406320"/>
            <a:ext cx="864360" cy="4546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8" name="Straight Arrow Connector 11"/>
          <p:cNvCxnSpPr/>
          <p:nvPr/>
        </p:nvCxnSpPr>
        <p:spPr>
          <a:xfrm flipV="1">
            <a:off x="2966760" y="4507920"/>
            <a:ext cx="865800" cy="43380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9" name="Straight Arrow Connector 12"/>
          <p:cNvCxnSpPr/>
          <p:nvPr/>
        </p:nvCxnSpPr>
        <p:spPr>
          <a:xfrm>
            <a:off x="2968200" y="4944600"/>
            <a:ext cx="864360" cy="4294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BE80-8F15-445A-A669-09279AFDDFE3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2. Subcontracts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-51120" y="736560"/>
            <a:ext cx="9164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9999"/>
                </a:solidFill>
                <a:latin typeface="Arial Unicode MS"/>
              </a:rPr>
              <a:t>Who ?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Works under business conditions with profit purpose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Not subordinated to nor under supervision of beneficia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Not another beneficiar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Not an affiliate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9999"/>
                </a:solidFill>
                <a:latin typeface="Arial Unicode MS"/>
              </a:rPr>
              <a:t>In What Conditions 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A limited and non core part of the projec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57440" indent="-28584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Not R&amp;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57440" indent="-28584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Not the coordinator’s task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Tasks and amount indicated and justified in technical annex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Beneficiary remains reponsi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If Intellectuel Property , it must belong to beneficiar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 u="sng">
                <a:solidFill>
                  <a:srgbClr val="002060"/>
                </a:solidFill>
                <a:uFillTx/>
                <a:latin typeface="Arial Unicode MS"/>
              </a:rPr>
              <a:t>Best value for money, transparency and equal treat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57440" indent="-28584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Several bids (or public procuremen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57440" indent="-28584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Except for pre-existing framework agreemen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Subcontracting costs (core tasks) are claimed without being indicated in the DoW (technical annex-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8c93"/>
                </a:solidFill>
                <a:latin typeface="Arial"/>
              </a:rPr>
              <a:t>If not in the DoW, request approval/amend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Subcontracting costs (minor tasks e.g. website, catering etc) are claimed as other direct co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c8c93"/>
                </a:solidFill>
                <a:latin typeface="Arial"/>
              </a:rPr>
              <a:t>To be claimed under subcontracting cost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Subcontracting between beneficiaries is not allow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c8c93"/>
                </a:solidFill>
                <a:latin typeface="Arial"/>
              </a:rPr>
              <a:t>If beneficiary A (the “seller”) sells to beneficiary B (the “buyer”), then it is the beneficiary A (and not the beneficiary B) to claim the co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"/>
              </a:rPr>
              <a:t>Remark: without any mark-up and profit, only the cos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789120" y="189000"/>
            <a:ext cx="8030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2. Subcontract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c8c9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c00000"/>
                </a:solidFill>
                <a:latin typeface="Arial"/>
              </a:rPr>
              <a:t>most common errors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5D3-937D-41EF-98D9-C30AE6C1C43B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543280" y="1495440"/>
            <a:ext cx="360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c8c93"/>
                </a:solidFill>
                <a:latin typeface="Arial"/>
              </a:rPr>
              <a:t>Sub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if  hiring consultants to perform part of the work &amp; the conditions of Art. II.7 of FCH JU GA are fulfi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contracting agreement based on business conditions w/ profit inclu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contractors do not have any IPR  or ownership rights on the 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not usually work on the premises of the beneficiary and is not under the  direct instruction /hierarchical supervision by Benefic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uneration based on the delivering of specific outputs/products rather than on working hour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contrcating between beneficiaries of the GA cannot be toler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 u="sng">
                <a:solidFill>
                  <a:srgbClr val="c00000"/>
                </a:solidFill>
                <a:uFillTx/>
                <a:latin typeface="Arial"/>
              </a:rPr>
              <a:t>Common error: claimed as personnel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Content Placeholder 1"/>
          <p:cNvSpPr/>
          <p:nvPr/>
        </p:nvSpPr>
        <p:spPr>
          <a:xfrm>
            <a:off x="76320" y="1495440"/>
            <a:ext cx="4932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Personnel cos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if the following cumulative criteria 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eficiary has a contract with a person to work tasks under the FCH JU project,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 must work under the instructions of the beneficiary + in the premises of the beneficiary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sult of the work belongs to the beneficiary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s of employing the consultant not significantly different from the employees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muneration is based on working hours rather than on the delivering of specific outputs/products and should be recorded in the accounts of the beneficiary,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and subsistence costs related to such consultants' have to be paid directly by the beneficiary in order to be eligible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 a criter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whether the consultants are self-employed or employed by a third party,  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00"/>
                </a:solidFill>
                <a:uFillTx/>
                <a:latin typeface="Arial"/>
              </a:rPr>
              <a:t>Common error: claimed as subcontracting cost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289080" y="25560"/>
            <a:ext cx="83865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2.Subcontract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c8c93"/>
                </a:solidFill>
                <a:latin typeface="Arial"/>
              </a:rPr>
              <a:t>Consultants: sub-contractor or personnel</a:t>
            </a:r>
            <a:r>
              <a:rPr b="0" lang="fr-BE" sz="2800" spc="-1" strike="noStrike">
                <a:solidFill>
                  <a:srgbClr val="3c8c93"/>
                </a:solidFill>
                <a:latin typeface="Arial"/>
              </a:rPr>
              <a:t>?</a:t>
            </a:r>
            <a:r>
              <a:rPr b="0" lang="fr-BE" sz="3600" spc="-1" strike="noStrike">
                <a:solidFill>
                  <a:srgbClr val="3c8c93"/>
                </a:solidFill>
                <a:latin typeface="Arial"/>
              </a:rPr>
              <a:t> </a:t>
            </a:r>
            <a:br>
              <a:rPr sz="3600"/>
            </a:br>
            <a:r>
              <a:rPr b="1" lang="fr-BE" sz="2800" spc="-1" strike="noStrike">
                <a:solidFill>
                  <a:srgbClr val="0066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284720" y="115560"/>
            <a:ext cx="452448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3.Third parties carrying part of the work under special clause 11 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0" y="141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5280" indent="-380880">
              <a:lnSpc>
                <a:spcPct val="80000"/>
              </a:lnSpc>
              <a:spcBef>
                <a:spcPts val="374"/>
              </a:spcBef>
              <a:buClr>
                <a:srgbClr val="0099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 Unicode MS"/>
                <a:ea typeface="SimSun"/>
              </a:rPr>
              <a:t>Who ?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EEIG, Joint research unit, affiliates and groupings carrying out part of the work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 Unicode MS"/>
                <a:ea typeface="SimSun"/>
              </a:rPr>
              <a:t>Common error: </a:t>
            </a: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3</a:t>
            </a:r>
            <a:r>
              <a:rPr b="0" lang="en-GB" sz="1800" spc="-1" strike="noStrike" baseline="30000">
                <a:solidFill>
                  <a:srgbClr val="002060"/>
                </a:solidFill>
                <a:latin typeface="Arial Unicode MS"/>
                <a:ea typeface="SimSun"/>
              </a:rPr>
              <a:t>rd</a:t>
            </a: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 party not identified in the GA with SC-1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 Unicode MS"/>
                <a:ea typeface="SimSun"/>
              </a:rPr>
              <a:t>In what condition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tasks  to be indicated in Annex I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Beneficiary retains sole responsibilit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Financially, third party treated as a beneficiar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 Unicode MS"/>
                <a:ea typeface="SimSun"/>
              </a:rPr>
              <a:t>Common error: </a:t>
            </a: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Costs claimed by the beneficiary whereas incurred by the 3</a:t>
            </a:r>
            <a:r>
              <a:rPr b="0" lang="en-GB" sz="1800" spc="-1" strike="noStrike" baseline="30000">
                <a:solidFill>
                  <a:srgbClr val="002060"/>
                </a:solidFill>
                <a:latin typeface="Arial Unicode MS"/>
                <a:ea typeface="SimSun"/>
              </a:rPr>
              <a:t>rd</a:t>
            </a:r>
            <a:r>
              <a:rPr b="0" lang="en-GB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 party and recorded in its accounts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B1D8-EA1E-4AD9-A446-0E54735DD398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5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4 &amp; 5. Third parties making available resource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0240" y="1197000"/>
            <a:ext cx="9113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4597a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 Unicode MS"/>
                <a:ea typeface="SimSun"/>
              </a:rPr>
              <a:t>Who ?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  <a:ea typeface="SimSun"/>
              </a:rPr>
              <a:t> </a:t>
            </a: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4597a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Typical example : a third party giving access to its lab and lab staff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4597a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  <a:ea typeface="SimSun"/>
              </a:rPr>
              <a:t>Provided either free of charge or against reimburse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4597a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4597a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2060"/>
                </a:solidFill>
                <a:latin typeface="Arial Unicode MS"/>
                <a:ea typeface="SimSun"/>
              </a:rPr>
              <a:t> </a:t>
            </a: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 Unicode MS"/>
                <a:ea typeface="SimSun"/>
              </a:rPr>
              <a:t>In what conditions  can it be charged to the FCH JU ?</a:t>
            </a: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Arial Unicode MS"/>
              </a:rPr>
              <a:t>4. free of charge</a:t>
            </a: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Indicated in Annex 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costs are recorded in the accounts of the 3</a:t>
            </a:r>
            <a:r>
              <a:rPr b="0" lang="en-GB" sz="1600" spc="-1" strike="noStrike" baseline="30000">
                <a:solidFill>
                  <a:srgbClr val="002060"/>
                </a:solidFill>
                <a:latin typeface="Arial Unicode MS"/>
              </a:rPr>
              <a:t>rd</a:t>
            </a: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 party and auditable,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costs also declared as as receipt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00000"/>
                </a:solidFill>
                <a:uFillTx/>
                <a:latin typeface="Arial Unicode MS"/>
              </a:rPr>
              <a:t>Common errors</a:t>
            </a:r>
            <a:r>
              <a:rPr b="0" lang="en-GB" sz="1800" spc="-1" strike="noStrike">
                <a:solidFill>
                  <a:srgbClr val="ff0000"/>
                </a:solidFill>
                <a:latin typeface="Arial Unicode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receipts not declared,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indirect costs are claimed for personnel made available from a third party to a beneficiary but not working in the premises of the beneficiary</a:t>
            </a:r>
            <a:r>
              <a:rPr b="0" lang="en-GB" sz="1800" spc="-1" strike="noStrike">
                <a:solidFill>
                  <a:srgbClr val="00206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Arial Unicode MS"/>
              </a:rPr>
              <a:t>5. Against reimbursement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Indicated in Annex 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Reimbursement recorded in the accounts of the beneficiary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44880" indent="-33948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00000"/>
                </a:solidFill>
                <a:uFillTx/>
                <a:latin typeface="Arial Unicode MS"/>
              </a:rPr>
              <a:t>Common error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 Unicode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 Unicode MS"/>
              </a:rPr>
              <a:t>the 3rd party reimbursement includes not only costs but margin (profi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156D-0F9A-4A40-968E-B74FABC63ED0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828-7D92-4548-B546-4AA8BBF7CFF4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30240" y="1125360"/>
            <a:ext cx="90057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9999"/>
                </a:solidFill>
                <a:latin typeface="Arial Unicode MS"/>
              </a:rPr>
              <a:t>Notion</a:t>
            </a: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 Unicode MS"/>
              </a:rPr>
              <a:t>Purchase (or lease) of equipment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 Unicode MS"/>
              </a:rPr>
              <a:t>Transfer of ownership (control) from supplier to beneficiar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 Unicode MS"/>
              </a:rPr>
              <a:t>GA conceived on the idea that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02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main costs = personnel cost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02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while purchase of equipment is ancillary </a:t>
            </a:r>
            <a:r>
              <a:rPr b="0" lang="fr-BE" sz="1600" spc="-1" strike="noStrike">
                <a:solidFill>
                  <a:srgbClr val="c00000"/>
                </a:solidFill>
                <a:latin typeface="Arial Unicode MS"/>
              </a:rPr>
              <a:t>=&gt; no clear rule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 Unicode MS"/>
              </a:rPr>
              <a:t>But in demo project it can be the contra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1" lang="fr-BE" sz="1800" spc="-1" strike="noStrike">
                <a:solidFill>
                  <a:srgbClr val="0070c0"/>
                </a:solidFill>
                <a:latin typeface="Arial Unicode MS"/>
              </a:rPr>
              <a:t>=&gt; need to clarify the rules  for purchases above 125.000 EU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9999"/>
                </a:solidFill>
                <a:latin typeface="Arial Unicode MS"/>
              </a:rPr>
              <a:t>Principle of best value for money </a:t>
            </a: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 Unicode MS"/>
              </a:rPr>
              <a:t>For public entities:   public procurement rul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14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 Unicode MS"/>
              </a:rPr>
              <a:t>For private entities if purchase is &gt;125.000 EU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02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Or request three offf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02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Or use pre-existing framwork agreem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02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 Unicode MS"/>
              </a:rPr>
              <a:t>Or another detailed explanation of the reasons only one possible supplier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0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70c0"/>
                </a:solidFill>
                <a:latin typeface="Arial Unicode MS"/>
              </a:rPr>
              <a:t>=&gt; In option 2 and 3: better to have a discussion with FCH JU before and to document what is agreed to ensure legal certainty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20520" y="188640"/>
            <a:ext cx="8578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6. Supplier of equipment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BDD-EDD5-4496-80E4-EAD13666AB24}" type="slidenum">
              <a:rPr b="0" lang="fr-BE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-360" y="544320"/>
            <a:ext cx="912636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9999"/>
                </a:solidFill>
                <a:latin typeface="Arial Unicode MS"/>
              </a:rPr>
              <a:t>Is it possible to purchase equipment from </a:t>
            </a: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9999"/>
                </a:solidFill>
                <a:latin typeface="Arial Unicode MS"/>
              </a:rPr>
              <a:t>an affiliate or another beneficiary?</a:t>
            </a: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02060"/>
                </a:solidFill>
                <a:uFillTx/>
                <a:latin typeface="Arial Unicode MS"/>
              </a:rPr>
              <a:t>2 scenarios:  </a:t>
            </a:r>
            <a:endParaRPr b="0" i="1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lvl="1" marL="752040" indent="-3222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Purchase from another beneficiary or affiliate under special clause 11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27880" indent="-32220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2060"/>
                </a:solidFill>
                <a:latin typeface="Arial Unicode MS"/>
              </a:rPr>
              <a:t>i.e purchase from s.o. working in the projec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27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2040" indent="-3222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Purchase from an affiliate that provides only the equipment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27880" indent="-32220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2060"/>
                </a:solidFill>
                <a:latin typeface="Arial Unicode MS"/>
              </a:rPr>
              <a:t>i.e purchase from s.o. NOT working in the projec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04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2060"/>
                </a:solidFill>
                <a:latin typeface="Arial Unicode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02060"/>
                </a:solidFill>
                <a:uFillTx/>
                <a:latin typeface="Arial Unicode MS"/>
              </a:rPr>
              <a:t>Possible if</a:t>
            </a:r>
            <a:endParaRPr b="0" i="1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lvl="1" marL="752040" indent="-32220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c00000"/>
                </a:solidFill>
                <a:latin typeface="Arial Unicode MS"/>
              </a:rPr>
              <a:t>Building the equipment is not an objective of the projec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27880" indent="-32220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Arial Unicode MS"/>
              </a:rPr>
              <a:t>Otherwhise « builder » should be a beneficiary &amp; declare its costs (</a:t>
            </a:r>
            <a:r>
              <a:rPr b="0" lang="fr-BE" sz="1400" spc="-1" strike="noStrike">
                <a:solidFill>
                  <a:srgbClr val="002060"/>
                </a:solidFill>
                <a:latin typeface="Arial Unicode MS"/>
              </a:rPr>
              <a:t>not purchase price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41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2040" indent="-3222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Purchase complies with rules for « Best value for money »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4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2040" indent="-32220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Arial Unicode MS"/>
              </a:rPr>
              <a:t>Additional information require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27880" indent="-32220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 u="sng">
                <a:solidFill>
                  <a:srgbClr val="002060"/>
                </a:solidFill>
                <a:uFillTx/>
                <a:latin typeface="Arial Unicode MS"/>
              </a:rPr>
              <a:t>When</a:t>
            </a:r>
            <a:r>
              <a:rPr b="0" lang="fr-BE" sz="1600" spc="-1" strike="noStrike">
                <a:solidFill>
                  <a:srgbClr val="002060"/>
                </a:solidFill>
                <a:latin typeface="Arial Unicode MS"/>
              </a:rPr>
              <a:t>: Only If three conditions are fulfille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04080" indent="-21456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2060"/>
                </a:solidFill>
                <a:latin typeface="Arial Unicode MS"/>
              </a:rPr>
              <a:t>Purchase from affiliat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04080" indent="-21456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2060"/>
                </a:solidFill>
                <a:latin typeface="Arial Unicode MS"/>
              </a:rPr>
              <a:t>Value of the puchase &gt;1/3 of beneficiary cost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04080" indent="-214560">
              <a:lnSpc>
                <a:spcPct val="80000"/>
              </a:lnSpc>
              <a:spcBef>
                <a:spcPts val="349"/>
              </a:spcBef>
              <a:buClr>
                <a:srgbClr val="00206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2060"/>
                </a:solidFill>
                <a:latin typeface="Arial Unicode MS"/>
              </a:rPr>
              <a:t>Purchase is project specific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4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27880" indent="-32220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 u="sng">
                <a:solidFill>
                  <a:srgbClr val="002060"/>
                </a:solidFill>
                <a:uFillTx/>
                <a:latin typeface="Arial Unicode MS"/>
              </a:rPr>
              <a:t>Why</a:t>
            </a:r>
            <a:r>
              <a:rPr b="0" lang="fr-BE" sz="1600" spc="-1" strike="noStrike">
                <a:solidFill>
                  <a:srgbClr val="002060"/>
                </a:solidFill>
                <a:latin typeface="Arial Unicode MS"/>
              </a:rPr>
              <a:t>: assess reasonabless of the « purchasing price » (best value for money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41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27880" indent="-322200">
              <a:lnSpc>
                <a:spcPct val="80000"/>
              </a:lnSpc>
              <a:spcBef>
                <a:spcPts val="400"/>
              </a:spcBef>
              <a:buClr>
                <a:srgbClr val="00206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 u="sng">
                <a:solidFill>
                  <a:srgbClr val="002060"/>
                </a:solidFill>
                <a:uFillTx/>
                <a:latin typeface="Arial Unicode MS"/>
              </a:rPr>
              <a:t>What:</a:t>
            </a:r>
            <a:r>
              <a:rPr b="0" lang="fr-BE" sz="1600" spc="-1" strike="noStrike">
                <a:solidFill>
                  <a:srgbClr val="002060"/>
                </a:solidFill>
                <a:latin typeface="Arial Unicode MS"/>
              </a:rPr>
              <a:t> breakdown of price per costs categories  +  possibility to request some invoices from third parties           </a:t>
            </a:r>
            <a:r>
              <a:rPr b="0" lang="fr-BE" sz="1600" spc="-1" strike="noStrike">
                <a:solidFill>
                  <a:srgbClr val="c00000"/>
                </a:solidFill>
                <a:latin typeface="Arial Unicode MS"/>
              </a:rPr>
              <a:t>NOT AN AUDI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title"/>
          </p:nvPr>
        </p:nvSpPr>
        <p:spPr>
          <a:xfrm>
            <a:off x="5409720" y="-360"/>
            <a:ext cx="37083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rebuchet MS"/>
                <a:ea typeface="SimSun"/>
              </a:rPr>
              <a:t>6. Supplier of equipment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00:44Z</dcterms:created>
  <dc:creator>atanami</dc:creator>
  <dc:description/>
  <dc:language>en-US</dc:language>
  <cp:lastModifiedBy>PADUREAN Alexandru ( FCH )</cp:lastModifiedBy>
  <cp:lastPrinted>2014-06-17T12:03:43Z</cp:lastPrinted>
  <dcterms:modified xsi:type="dcterms:W3CDTF">2015-06-02T12:17:33Z</dcterms:modified>
  <cp:revision>290</cp:revision>
  <dc:subject/>
  <dc:title>Slide 1</dc:title>
</cp:coreProperties>
</file>