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dt" idx="7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 type="ftr" idx="7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 type="sldNum" idx="7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6105B-7FF6-4DF9-ACBD-750F98B26DAE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377E0-2249-4E61-87F6-1E70EF0AC679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6E7A4-B463-46D6-B331-BD850489B5BB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ECCE7-ED98-4985-98F6-49850718F9B4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BB88F-6BA4-4C52-89D6-3EBDCAF5D342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61EF0-2C8B-4377-A4BD-D3748553662D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550FA2-382D-4175-9E19-EACCFAB32616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FC30C-C657-44E0-982D-E909D91E76E7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5B679-4CE7-4F40-BC19-9B9FBC17FA1A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CAB51-A5B6-436D-9DFC-A6D7E816696F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B816A-46FB-418F-8D9D-5B8BFBBC44EC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16186-46BA-42D3-954A-7024D22B3E80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25B914-0018-46C9-A5DD-05EA6C379480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493CB-20BB-4BD0-8FD2-1070EBEE56D3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3FC93-3A6B-4B0E-856E-BCCBD619031B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6E414-6172-4BCA-8366-98CB8D6A94DC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rifications (broad term comprising all  types of reviews, controls, assessments…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AF374-AED6-4727-B71E-D0510F701531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5144B-C365-4778-A5D8-D42259FD4D8B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CEF80-E13B-44C6-8FF1-FC16F1B4BB52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61ABB-124B-4C20-883C-903E3C1F7E8C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B4058-001E-4F67-A870-DCD8733E0D05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FAC80-AC92-4054-ADA0-6FACF6C1DA26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2F62-DA86-4D19-BAB5-4EE495A6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1CE-2178-4E08-AEDA-3491E352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557F6-4E4B-4FF5-B45F-434BB3D3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782AF-DA85-4422-8F53-7C12DADC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3C67A-8BC4-4A23-BA1C-F033100C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C6257-B32C-45EC-AEB7-5FAFC369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4236C-B18E-45B0-977D-D44FDC81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3F9A6-C5D7-4242-BD01-4614860F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D11F2-214B-41F0-88BD-3A76DD36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E0F52-FD94-4241-AC5F-882238C5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894E3-C923-4966-9939-EA692597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D26EA-68FE-49E3-B69A-8330DCCD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1644-77FE-411F-8685-7B505277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FABC7-2705-47F8-AE1B-0A9BAF6F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668B4-7EA5-4A46-84E7-6399CAAC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0ED8E-D037-43C1-A178-2F3F8B7C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B1AE4-DBD8-445B-80A6-836C4539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B3240-53BC-4622-8E2C-E2133179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F29D5-409A-4F43-9119-369B773F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07D90-80C6-44EB-9D12-0794CAB7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2DF61-3726-4A07-8137-B5EBDCA2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12D48-EAD4-4FF7-927E-5BFA7F9B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DC17D-6555-4F15-B188-126AE233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CDB7-55FB-41A5-9145-A53AFA92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6D032-9DFD-4147-B1A3-50EE138A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90F56-7958-4E69-A33F-8149A533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0A47F-2EB2-4ADC-9E49-DAA34698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92B8E-DD3D-49CC-A4A1-B2D15105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BEC0D-AD7F-4648-87AA-9E8669BE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61B95-2024-4919-88F0-5EBB6AA8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9C44E-D4C5-40D0-AC44-8A109108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ADC3B-C259-4394-8EFB-AAB78632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EA27B-A0B7-4C5E-A33B-DE39F9CC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D6202-47B9-4847-B5BB-183F59FD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CC20-D509-407F-B611-980CBA7E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5D5BD-BCAA-4E1B-80F0-481F0C8A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1F883-F206-4C69-8666-0623E1BC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770C3-23E4-4BCC-A274-738397D4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85D23-5D71-40F8-BE79-D9FC744F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6E258-D007-4726-A4A3-6AAA4800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F4269-801F-47BD-8D97-CD040B90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E4E4D-03E3-495A-AAD7-BF70AE95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984D7-7C10-4F87-9122-510A66EF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86947-D9D1-494C-A280-F635EC4A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5EDCC-2308-4FD7-A832-A598349E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E01A-603B-4459-B742-F1D0502F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B2FEE-393A-4FF1-A270-54C202A3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A872F-8F58-42E9-A6AC-78344DA7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138B3-F6D6-422B-AF10-9F35B5F6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B3989-F053-4D44-B073-0FD3287C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D64BE-C162-4EE9-B1F0-773DE651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B91AC5-61E5-4908-8043-20248303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CAA7BC-1F75-45ED-8D7B-EB1C1FA1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3CABF3-2DE9-4E81-B92D-DA1F83CF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02C555-9F42-4097-BC7D-D1E049A8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7FA44-F0F9-4ABF-8F67-17301D8C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56F6-777E-46AF-BC1D-EE12B6D1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D8E6C-4503-4C07-8209-22B7D33C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C9D39-BE45-4C98-BE05-90690B32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55633-0F59-47AA-9E88-D0EDEFAC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3A9C2-A9B2-4959-B015-8F0FD61F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A6C70-5321-4DA7-9DB9-28EC0EB0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4005FC-EA57-4F58-9A1C-93F4C0C2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0197B-8ACB-4F33-A8E8-F75EA089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55452D-CEB8-4259-ABA1-97949767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9B761C-638A-4572-AA7C-80B99881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DAEB26-7C9D-4C97-901C-0E6D2492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A68F-9AAB-4A0B-906C-0154EF26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942C40-859B-44AB-AD7E-5501BABB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362A8-C8F2-4677-8D7E-D6869B49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CE0BD1-4CAF-4037-A18F-575014C9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633A9-A3DC-499B-9EBB-0FFB189E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2E8A5-2332-43C7-859B-0BBE3D4F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EC71DB-D10B-4AEF-87EB-DBC176D2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6ACBEA-F3FD-49FA-8477-C94A910E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C67D8D-8521-4BE7-B16D-8B418CDA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4B8794-6CA2-4553-93B2-2F1CAD06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7A22EF-486F-4F95-BCCB-52040DF6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52EE-F929-4101-857A-0EF2771D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EE16D5-FA5E-402C-9D04-DF66A81F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0144A8-A292-466C-9780-1ABA8289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DD779C-4752-40D4-967E-4D5CC3A5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B6D880-484E-4F82-8B6F-A024553D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13389B-772E-4816-8C68-B33E4AD5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EA018-7752-4786-AD17-229FBB36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623EF2-3125-4171-9CC2-A6E7C847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2CB702-6DC9-4F1E-A11B-BBF4140E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7B8276-E003-4927-8339-EB34CD36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4C445C-96F6-43D8-BC58-8562BA43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AC22-E38C-4249-A123-0A495700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2BC671-467C-4DC0-8B10-151DF431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C7AC1A-35DF-4B0E-8A7D-09DBD93D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E7DBD4-F109-4D6F-8935-36BD7877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C180F9-01F6-452F-99B5-2CC08CF4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7004F7-B12E-4EA9-8A49-55F05408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501A3E-DF83-4956-B227-2567B864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CD96BF-A9D3-470B-A326-54F54F64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5C64CD-F37C-4527-BF05-98BD2AE4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D3FF50-13D2-424D-8790-CF2B47B0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70EB4A-A954-47F1-8A6F-17E222E0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04E8-AA25-41CB-B205-109F7930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9ACBD0-49CE-4F38-ADFD-A6664BE1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07D7BE-6D26-4EB8-8C5B-E2F38438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78F04C-3F9B-4682-A043-3037BEB1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6760C9-2207-4FE0-8896-444F57C4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6DA32B-6D5B-4C7D-89B4-74046D7E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5FA710-81FE-44DB-BCB2-F4E22707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AFCC47-21E3-4232-8168-33F03631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0C9115-2F09-4075-B3F6-07F956DB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DFB240-135F-4703-8043-279460C3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C8650F-3198-42F7-8E9C-82C9C874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E13-9F1C-4C57-9C1C-272DBDD5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D292-9DC0-4B78-B93E-DCA85EFF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4FF4B8-56CC-44FD-BCD2-74291648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F9B3A8-538A-4330-9764-69F84A0A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CEE535-582F-417B-A7C8-824694B5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3F2AC3-8008-4314-967F-34090B64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959A12-34AF-4C1E-8635-EAF6B9D0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697FD7-87E3-4E3E-91CD-EB3E11FD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1D5A5C-D448-4845-BBAA-1FC634EA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A76E68-48EA-4687-903F-DC459697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4B5421-9F3B-4103-85EC-4BE6CE0A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2AC751-7AF9-42A6-92D6-42E3F122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EDEA-8666-465F-A8EC-1E36B28C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9F4E21-EAFB-482A-A49C-A8EB0636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87F9BE-D17F-490F-83A3-78D09E20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205288-8AE3-4236-BF48-7E6AB420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33DA27-4581-4C3D-BA1B-29B406E0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213D07-800F-4923-82F3-B28E5BF3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32399A-C68C-45B3-9486-4365DD93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BADE59-5488-4239-BF72-3F7EF507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C1F81A-AB2C-4358-A8E9-BBE93CC9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371C62-8B9B-4A2C-B8DC-D9089AAA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46239C-94A8-4502-A297-D92B5F18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F181-EE97-4A45-A916-6FB4E39A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79B238-5604-457E-93F8-AC223EE8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614528-B990-4817-BD0A-6DB05CA5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2EC9FF-B710-4033-A1A8-F69D9B34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F10AB4-F60E-4D14-8D18-C5D74B91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C62613-2BC4-4B14-A514-A94659BD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B59C97-647E-4413-980A-89860BAE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7D2716-2035-49DF-B25F-A321B026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2688F1-BA59-428B-B391-EA8D64DA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7129AA-2E6F-4CED-BD52-0C1C622C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12DEC1-A17C-4964-82C6-D2BF4B17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D8FA-2D0B-4E04-81FC-5A5E1647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5E1F30-C6E4-4C29-B191-F2362776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5989C3-7430-4C88-B3DD-423125E3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1813F8-FA23-4D9F-9892-17920A6D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CA7DF5-0AD2-454C-9159-4C83E917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24487D-2DF1-49B0-8D88-B150D0E8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F3C2BD-959D-4064-A3F9-DB0AE392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C99E1F-E785-42F8-91CC-A89DCC6A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8FE91F-4FA3-478E-B0D6-F1385FFC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D90E19-4CA3-4E9B-9BD9-949F2EF1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0F4836-8F0A-4CC2-B964-B852F509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7DD8-4F1F-47F9-A991-0441EB4C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A683EF-60DD-4C79-B35E-C15E4D44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E4D69C-3D1B-47B8-8491-C4C8B7A7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BBDC52-E30A-42D7-B4CA-38A9848A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9C15CD-A072-4EAB-9FAC-D2B24087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0FE229-E7FC-4714-94B5-2A3E879B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FD217D-E295-4431-8F11-9C859390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EC7482-BC97-4462-B806-C6091C72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EFBB18-B148-4DB8-8166-8E535074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2FF14E-B7B6-4F45-86A3-CD7C18B8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15E95E-3621-4B9B-BDE8-33278180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62568-43BB-4D6C-897B-8530AE28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D159CB-E0B5-4904-AF72-22EE6AD0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BE5E9F-3A0C-469B-A08E-D5F50FD6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2F779D-0CD8-4C92-B296-9A0B1745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DE99C5-BF9E-4FE5-B933-021D8F4D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68DDCA-6972-4B78-9214-0558E8FF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0B68A1-82C5-4A24-B5BE-56D2B50F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6BF31E-EAF1-4D29-8990-42144E0A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D8E2B2-89BD-4764-9B1D-81CAAEE3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3E3893-386C-488F-B77A-4BDC30D3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EF1BED-4293-4727-8F27-06C91C9F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9AEE4-3F3D-464F-A1B6-59C4F0B1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DD5376-9BE7-49F8-819F-9CE294E2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CD2E5F-FD3A-4AC1-A24E-5F488B2B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791951-52A9-4FAC-B72A-78061CDD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A86FCA-A27C-4778-B528-DAC4EAEA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D662F0-BB04-4CB7-91B9-DAD80B7E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8C6614-D793-4825-92C8-ED94A11F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D20813-3DCF-4926-ACF9-E3205DCB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305CF4-0BB1-4CB5-990E-498603B4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CC2C30-B0BD-4536-83C1-FC4A6772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64BC1B-817A-4CD0-97D7-82449D3C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DCCCF-A623-4058-9B86-34201A7A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4701A2-4581-4322-8F2E-B8520DD8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78D9D1-A792-490C-8F4D-30583745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1A555F-E9BF-460F-927A-5C7D7041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E8752A-8B86-40D0-AAD0-91F841C8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EF0364-087A-4EBB-BB2B-7C37BCAB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202937-5489-4E68-8BEE-BD4D6BE4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62C924-F6C8-427F-9A07-8A0FD471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80036A-B8A5-4ABC-A9EF-66DA33A0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8A636F-7B47-42B5-965B-33AC94DB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91F2FA-38A1-480D-AB00-F75F38FC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328FC-B6CC-425A-BA28-D17753D1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94619C-CEB7-4EB5-9E88-6C0295CE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850CC1-2FB8-40EE-B1E0-61D265AD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962183-7527-4907-B851-CE484512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3ACD53-6043-44E5-A9CB-B6A30226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5ED37D-B82E-45A8-96E3-656AE802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B7E0C7-40F5-4410-BD25-D547A4AA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121BEC-63DF-42E6-935F-268C9E79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DB37D5-50BA-4D06-B417-0FB11D1A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ACF27F-F767-45FC-A239-A324AD7C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91FF0E-D4C7-44E6-890A-67EE5EC8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22CAB-C5F0-4E7F-A68F-95835481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02D1EA-4AA1-4437-B0B6-D290B7B9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6E190A-F870-481F-88BC-FDB02AD9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65B8EC-A80C-440F-8A28-BADB1EA2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6533C3-EABC-41BE-AF05-C1532079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86DCE0-D866-4252-919E-4468ADF9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016A76-4EAD-493F-83AC-577BDB58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6F7B0C-EB62-4489-99A0-C006C2DA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D17715-F3DF-495D-BB28-842ED666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676D48-8A4C-4C09-AA33-2BD776F1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9895C5-2BFC-4505-A2A0-BE85A64C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F12D-6ED1-4451-9EFF-88C121F0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F9273-7D5B-412D-94FC-ECEEF72F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019083-924F-4C1B-99E9-92E97484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E89FB-3B5F-4252-AE57-63452103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1DCA4-085C-4568-ADCD-129DB14F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B66F7-0F2E-49BD-A54B-111422E8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EBAEE-4A28-4EB9-B128-CB50C850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DD77A-36B6-4B61-B768-8A7C168A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ACABA-AF06-4C48-B325-F7F95D87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C0494-F3E5-46D6-9A9F-B6B1D120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D1AAB-39D6-4BFF-86A4-B314CA36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E487D-ECF8-4DEA-8476-B399738E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9376-4854-4DB0-B4D0-FCE69DAA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60DF0-495D-4D52-A4D1-64FC991C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D9867-FAC2-4DB0-8FE6-4D03FD18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BCD28-4557-4448-9741-AE71A36F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BE8A9-E334-44D1-A080-92AADD31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C6AFD-71A3-4979-A0BA-04149938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A6584-282D-47A7-8F1D-24DA0D61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BA22B-E8D1-4D15-AECC-D6EE41E2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F2E5C-B5AA-48F5-B2E3-BDECED66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E5AED-B245-4938-BB23-95361321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6CCB0-6913-4995-A3C0-019B1530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AC2-EC35-4F22-BD66-9CBC2319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6EB35-CC67-4EF6-94E1-13F0BA10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80C3A-0570-4801-8826-DDD9B769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2D317-5632-45EE-BF22-AB4CA3EB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15ACC-1882-4420-8FD8-A30C6ACE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2AE66-0C9B-45EF-A0CE-2441A332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82B3F-22F9-4FA9-BD5B-80F8D33D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C8AEF-6EDC-40DC-8378-D856A8FD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EAF95-AD80-47C1-93CE-28117374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EBDA7-468B-4913-897C-95E47CA8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5F74E-A799-4119-8642-A9572D93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2D5-1C9B-4AF7-A282-416C87CE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B7A76-BB75-410C-B960-F6D2E1C9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DE3F2-7EE3-4AA1-9D9A-9930E6D7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BE254-9C85-41C2-8F01-2E6DE328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925E3-9E6F-40F5-8954-1FF40F2B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22D5A-3A3E-47A1-BE86-D4F2A2B4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822AA-5649-4B57-A641-AF287146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778B9-EEF4-4901-9E39-26420396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7F15D-C56D-4ADF-B5E0-56958F16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5573A-2E48-4A90-82D0-C8713546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96CA8-6339-4F7A-BFCC-8EC4F47C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9CD-9DE7-4364-A86A-8DF8C2CF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B303B-CA87-4DD6-A9BE-C9F159C1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E3981-E777-4C0A-9251-9832F967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4B5A8-AB13-4FE9-A1D9-4F70AC61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BF033-C995-428F-B3BA-58683682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89E78-89E7-461A-B5C5-D6C15D8F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B2788-4E26-4CE1-8975-FD14AED9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97F72-1E95-41DF-8904-DBE1EBFB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E51AD-7F5B-489A-BA12-C695968C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E3052-AFE8-4144-A69E-7975D7C7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96FF8-8705-4F35-B221-8238A858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725E-188F-47DC-9BB9-67474F76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24634-7B73-423B-AB5E-1B2047AC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4808F-AF3C-4E6D-B5F2-9117F572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F5659-D420-489A-BCCE-1A2B1396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DB58C-AAFD-4437-98B4-8A8CD08E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383C1-4D61-4A06-923C-008268CE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840FF-ADAD-44AE-905D-ABFA7B17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E88EA-0F4F-4CE0-AD68-A6A81D4A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CBE13-E2A0-478C-89AD-2AF63629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1C220-F1E9-459A-9983-37305400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B6013-0FD5-48DA-BE0D-ED512580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ECE4-9F74-49CF-8A44-6A6BEE2A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AC10B-2107-4EE2-A06B-D69B633C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A7A51-7A2A-410E-A085-4A75A1A6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E9812-E9CA-415B-A530-34E12FF2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AEDB2-6061-4391-A869-93B3F093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DC036-DFE1-490D-9D8D-2A70697F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6A760-3647-401A-AF27-AD5C889B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161CC-9208-4C9E-9C44-7564CC59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675D8-9568-4E6C-8A65-8A862AB0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E4C40-8168-4C6E-B0A1-55818F97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AA438-72CE-4BE5-A8B4-2D7DDDF6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43023-2AC1-40CC-BAAB-13B8F038A21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61491-55D5-413C-A9AD-AD9AD549D9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FCH JU - Power Point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7F629-2DA8-447F-A9D6-E6B7C4D0F9A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8DA1F-9E3E-48B5-868D-ED92B1766C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BE8D3-8C76-461A-ACE3-C8070241C74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C185D-B194-42BC-A735-2B42729EDB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C601C-340E-4F49-8CE6-8A5FF085C2C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705CF-15E4-45CF-9B41-AD94BEB38A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57DBFF-266D-4AD1-B6EB-7B232C66B86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E9167-E8BD-47FB-92DF-9D27880988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24214-8986-47B8-93CF-EFFA450F6E3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64BDC-3BFF-4530-93DC-1E4AB2CFCF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1B126-9B0A-4197-98FE-A0C2F04168E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7AD06-146A-4294-B236-50A9C47787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274A0-299D-4B0D-8BBB-DB5A2C4B193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687C5-B085-490A-A130-FF86B9932F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B1CB6-44E8-445A-8264-1E2E7FB4BE1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D6369-C46A-4A41-BE20-05ACE4DE13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C3A39-D1A9-4A45-9555-E76876623A7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AEC97-B36F-4900-AB52-C6383EF7A7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AB4D1-2CBF-4831-9728-534D886FB2E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6AE27-3F14-4E19-9C6D-C175EF9E06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B7225-04CD-44B3-A84D-B572BEE041A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F5261-5F4C-4C23-89BB-00DB9EE610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FCH JU - Power Point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32FB1-6AB8-4FFA-AABC-BBF92F62D04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99AC6-1487-44CF-A228-2075A76442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1A28C-0867-488C-8685-2B80E3BADB4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AEA45-9B3F-4C6E-B9E0-A090364EEE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178DA-0FC5-40B7-9983-F839997DF06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23447-4536-4881-A8B9-22D3C0EFF7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3C093-C038-4E9F-A82B-33A3D00A7AA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26C31-DCB6-45FF-881D-25E605A798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4C554-6C9B-47AB-A766-B28E95F9C75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8D23F-8E64-49EC-93A8-EA11B61EA7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B68ED-51BA-466C-8194-F2429EAD032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D581D-8CA2-4B40-B68A-7669268692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8DCA8-5F36-414A-83D3-F4045591272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F5F11-DCD7-445A-8170-28823FCFEF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1671F-17AE-4F33-BA97-33EE6E9BDBD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4C085-55F6-4E86-8D65-A8E261E133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4120D-F66D-4A4D-AB36-CFBDB8B2137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37C74-EE49-4F39-8325-D1CA1C295F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B36E5-BAC5-4C7C-A48F-45BA7EEB509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A006C-59BD-4DBD-A119-01E1BEBE1A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0D85B-8A00-46B4-9E67-98AD7F51A5D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F3D89-D179-4205-ADB5-4A6B90C00F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9FBF2-B6AA-4AB2-856B-298512E60B0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3B99C-18A0-4782-9C96-1455CCEA02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BE167-31E3-43F3-A4C4-C5FFD4B1C16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F9F7E-9BAC-43F8-B5CC-35D5D11CCB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fch-ju.eu/content/how-participate-fch-ju-projects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Image 4" descr="530C_SLIDE_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5" name="TextBox 7"/>
          <p:cNvSpPr/>
          <p:nvPr/>
        </p:nvSpPr>
        <p:spPr>
          <a:xfrm>
            <a:off x="1163520" y="3621240"/>
            <a:ext cx="530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94c84"/>
                </a:solidFill>
                <a:latin typeface="Trebuchet MS"/>
                <a:ea typeface="ヒラギノ角ゴ Pro W3"/>
              </a:rPr>
              <a:t>Communication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FCH JU contro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3"/>
          <p:cNvSpPr/>
          <p:nvPr/>
        </p:nvSpPr>
        <p:spPr>
          <a:xfrm>
            <a:off x="243000" y="1163520"/>
            <a:ext cx="8901000" cy="20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5"/>
          <p:cNvSpPr/>
          <p:nvPr/>
        </p:nvSpPr>
        <p:spPr>
          <a:xfrm>
            <a:off x="1400040" y="227160"/>
            <a:ext cx="77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3. CFS (table with proced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5"/>
          <p:cNvSpPr/>
          <p:nvPr/>
        </p:nvSpPr>
        <p:spPr>
          <a:xfrm>
            <a:off x="8647200" y="655164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Picture 3" descr=""/>
          <p:cNvPicPr/>
          <p:nvPr/>
        </p:nvPicPr>
        <p:blipFill>
          <a:blip r:embed="rId1"/>
          <a:stretch/>
        </p:blipFill>
        <p:spPr>
          <a:xfrm>
            <a:off x="30240" y="1009800"/>
            <a:ext cx="9021600" cy="56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3"/>
          <p:cNvSpPr/>
          <p:nvPr/>
        </p:nvSpPr>
        <p:spPr>
          <a:xfrm>
            <a:off x="111240" y="1638360"/>
            <a:ext cx="896148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Model: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Model audit report agreed with the 3 external audit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Auditor’s opinio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Summary of audit adju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Analysis per cost categor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Work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Audit find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Systematic errors </a:t>
            </a:r>
            <a:r>
              <a:rPr b="1" lang="en-GB" sz="18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 for ‘extrapolatio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Other information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 (e.g. internal controls, differences with CFS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The Auditor’s opinion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(*)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 u="sng">
                <a:solidFill>
                  <a:srgbClr val="003399"/>
                </a:solidFill>
                <a:uFillTx/>
                <a:latin typeface="Arial"/>
                <a:ea typeface="ヒラギノ角ゴ Pro W3"/>
              </a:rPr>
              <a:t>Scope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:  Audit </a:t>
            </a:r>
            <a:r>
              <a:rPr b="1" lang="en-GB" sz="18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0" i="1" lang="en-GB" sz="14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‘In our opinion, except for…, the audited financial statements (i.e. Form C) are prepared , in all material aspects, in accordance with the grant agreement…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 u="sng">
                <a:solidFill>
                  <a:srgbClr val="003399"/>
                </a:solidFill>
                <a:uFillTx/>
                <a:latin typeface="Arial"/>
                <a:ea typeface="ヒラギノ角ゴ Pro W3"/>
              </a:rPr>
              <a:t>Results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How? 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Opinion + Summary of audit adju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Impact: 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FCH JU endorses audit results &amp; recover undue amounts (if a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1400040" y="227160"/>
            <a:ext cx="77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3. Financial audit (ex-p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Picture 4" descr="C:\Users\requean\AppData\Local\Microsoft\Windows\Temporary Internet Files\Content.IE5\PN37ILQ6\MC900434750[1].png"/>
          <p:cNvPicPr/>
          <p:nvPr/>
        </p:nvPicPr>
        <p:blipFill>
          <a:blip r:embed="rId1"/>
          <a:stretch/>
        </p:blipFill>
        <p:spPr>
          <a:xfrm>
            <a:off x="5219640" y="3906720"/>
            <a:ext cx="344520" cy="3445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C:\Users\requean\AppData\Local\Microsoft\Windows\Temporary Internet Files\Content.IE5\PN37ILQ6\MC900434750[1].png"/>
          <p:cNvPicPr/>
          <p:nvPr/>
        </p:nvPicPr>
        <p:blipFill>
          <a:blip r:embed="rId2"/>
          <a:stretch/>
        </p:blipFill>
        <p:spPr>
          <a:xfrm>
            <a:off x="7397640" y="4189320"/>
            <a:ext cx="344520" cy="344520"/>
          </a:xfrm>
          <a:prstGeom prst="rect">
            <a:avLst/>
          </a:prstGeom>
          <a:ln w="0">
            <a:noFill/>
          </a:ln>
        </p:spPr>
      </p:pic>
      <p:sp>
        <p:nvSpPr>
          <p:cNvPr id="1093" name="Rectangle 5"/>
          <p:cNvSpPr/>
          <p:nvPr/>
        </p:nvSpPr>
        <p:spPr>
          <a:xfrm>
            <a:off x="8497800" y="6443640"/>
            <a:ext cx="44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3"/>
          <p:cNvSpPr/>
          <p:nvPr/>
        </p:nvSpPr>
        <p:spPr>
          <a:xfrm>
            <a:off x="243000" y="1163520"/>
            <a:ext cx="8901000" cy="20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5"/>
          <p:cNvSpPr/>
          <p:nvPr/>
        </p:nvSpPr>
        <p:spPr>
          <a:xfrm>
            <a:off x="1400040" y="227160"/>
            <a:ext cx="77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3. Financial Audit (Independent rep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8624880" y="6410160"/>
            <a:ext cx="38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7" name="Picture 4" descr=""/>
          <p:cNvPicPr/>
          <p:nvPr/>
        </p:nvPicPr>
        <p:blipFill>
          <a:blip r:embed="rId1"/>
          <a:stretch/>
        </p:blipFill>
        <p:spPr>
          <a:xfrm>
            <a:off x="133200" y="1197000"/>
            <a:ext cx="8877600" cy="497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3"/>
          <p:cNvSpPr/>
          <p:nvPr/>
        </p:nvSpPr>
        <p:spPr>
          <a:xfrm>
            <a:off x="314280" y="1424160"/>
            <a:ext cx="851544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Th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b050"/>
                </a:solidFill>
                <a:latin typeface="Arial"/>
              </a:rPr>
              <a:t>4.a  Ex-ante review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b050"/>
                </a:solidFill>
                <a:latin typeface="Arial"/>
              </a:rPr>
              <a:t>4.b  Ex-post audi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5"/>
          <p:cNvSpPr/>
          <p:nvPr/>
        </p:nvSpPr>
        <p:spPr>
          <a:xfrm>
            <a:off x="1400040" y="227160"/>
            <a:ext cx="774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3"/>
          <p:cNvSpPr/>
          <p:nvPr/>
        </p:nvSpPr>
        <p:spPr>
          <a:xfrm>
            <a:off x="8591400" y="6443640"/>
            <a:ext cx="34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5"/>
          <p:cNvSpPr/>
          <p:nvPr/>
        </p:nvSpPr>
        <p:spPr>
          <a:xfrm>
            <a:off x="1400040" y="22716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4.a. The ex-ante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ヒラギノ角ゴ Pro W3"/>
              </a:rPr>
              <a:t>review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4"/>
          <p:cNvSpPr/>
          <p:nvPr/>
        </p:nvSpPr>
        <p:spPr>
          <a:xfrm>
            <a:off x="314280" y="1801800"/>
            <a:ext cx="8829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 </a:t>
            </a:r>
            <a:r>
              <a:rPr b="1" lang="en-GB" sz="2800" spc="-1" strike="noStrike" u="sng">
                <a:solidFill>
                  <a:srgbClr val="00b050"/>
                </a:solidFill>
                <a:uFillTx/>
                <a:latin typeface="Arial"/>
                <a:ea typeface="ヒラギノ角ゴ Pro W3"/>
              </a:rPr>
              <a:t>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Benefici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Coordin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 (Project Manager &amp; Financial Offic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 u="sng">
                <a:solidFill>
                  <a:srgbClr val="00b050"/>
                </a:solidFill>
                <a:uFillTx/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 u="sng">
                <a:solidFill>
                  <a:srgbClr val="00b050"/>
                </a:solidFill>
                <a:uFillTx/>
                <a:latin typeface="Arial"/>
                <a:ea typeface="ヒラギノ角ゴ Pro W3"/>
              </a:rPr>
              <a:t> </a:t>
            </a:r>
            <a:r>
              <a:rPr b="1" lang="en-GB" sz="2800" spc="-1" strike="noStrike" u="sng">
                <a:solidFill>
                  <a:srgbClr val="00b050"/>
                </a:solidFill>
                <a:uFillTx/>
                <a:latin typeface="Arial"/>
                <a:ea typeface="ヒラギノ角ゴ Pro W3"/>
              </a:rPr>
              <a:t>Contac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Consortium: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: Projec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12"/>
          <p:cNvSpPr/>
          <p:nvPr/>
        </p:nvSpPr>
        <p:spPr>
          <a:xfrm>
            <a:off x="314280" y="3478320"/>
            <a:ext cx="86965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4"/>
          <p:cNvSpPr/>
          <p:nvPr/>
        </p:nvSpPr>
        <p:spPr>
          <a:xfrm>
            <a:off x="8631360" y="6443640"/>
            <a:ext cx="3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5"/>
          <p:cNvSpPr/>
          <p:nvPr/>
        </p:nvSpPr>
        <p:spPr>
          <a:xfrm>
            <a:off x="1400040" y="22716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4.a.The ex-ante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ヒラギノ角ゴ Pro W3"/>
              </a:rPr>
              <a:t>review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4"/>
          <p:cNvSpPr/>
          <p:nvPr/>
        </p:nvSpPr>
        <p:spPr>
          <a:xfrm>
            <a:off x="0" y="1011240"/>
            <a:ext cx="9144000" cy="58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Key steps</a:t>
            </a:r>
            <a:r>
              <a:rPr b="1" lang="en-GB" sz="18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33ccff"/>
                </a:solidFill>
                <a:latin typeface="Arial"/>
              </a:rPr>
              <a:t>(deadlines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Coordinator submits periodic report to FCH JU </a:t>
            </a:r>
            <a:r>
              <a:rPr b="0" i="1" lang="en-GB" sz="1400" spc="-1" strike="noStrike">
                <a:solidFill>
                  <a:srgbClr val="33ccff"/>
                </a:solidFill>
                <a:latin typeface="Arial"/>
                <a:ea typeface="ヒラギノ角ゴ Pro W3"/>
              </a:rPr>
              <a:t>(within 60 days of end reporting period)</a:t>
            </a: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Technical report (via ‘SESAM’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inancial report (via ‘FORCE’ + paper original signed, if applicable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(*)</a:t>
            </a: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CFS (compliant with Form D), if applic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355320">
              <a:lnSpc>
                <a:spcPct val="1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 completeness che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 sends ‘Acknowledgment of receipt - AoR’ letter to coordinator </a:t>
            </a:r>
            <a:r>
              <a:rPr b="0" i="1" lang="en-GB" sz="1400" spc="-1" strike="noStrike">
                <a:solidFill>
                  <a:srgbClr val="33ccff"/>
                </a:solidFill>
                <a:latin typeface="Arial"/>
                <a:ea typeface="ヒラギノ角ゴ Pro W3"/>
              </a:rPr>
              <a:t>(if incomplete, suspension of time lim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 analysis of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 requests for clarifications, if any </a:t>
            </a:r>
            <a:r>
              <a:rPr b="0" i="1" lang="en-GB" sz="1400" spc="-1" strike="noStrike">
                <a:solidFill>
                  <a:srgbClr val="33ccff"/>
                </a:solidFill>
                <a:latin typeface="Arial"/>
                <a:ea typeface="ヒラギノ角ゴ Pro W3"/>
              </a:rPr>
              <a:t>(suspension of time lim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ccff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Coordinator submits requested clar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Respect dead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Clarity/completeness of repl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7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 analysis of submitted clarific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7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7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 approval of report &amp; payment via coordinator </a:t>
            </a:r>
            <a:r>
              <a:rPr b="0" i="1" lang="en-GB" sz="1400" spc="-1" strike="noStrike">
                <a:solidFill>
                  <a:srgbClr val="33ccff"/>
                </a:solidFill>
                <a:latin typeface="Arial"/>
                <a:ea typeface="ヒラギノ角ゴ Pro W3"/>
              </a:rPr>
              <a:t>(within 105 days </a:t>
            </a:r>
            <a:r>
              <a:rPr b="0" i="1" lang="en-GB" sz="1000" spc="-1" strike="noStrike">
                <a:solidFill>
                  <a:srgbClr val="33ccff"/>
                </a:solidFill>
                <a:latin typeface="Arial"/>
                <a:ea typeface="ヒラギノ角ゴ Pro W3"/>
              </a:rPr>
              <a:t>(if periodic report due until 31/12/2012) </a:t>
            </a:r>
            <a:r>
              <a:rPr b="0" i="1" lang="en-GB" sz="1400" spc="-1" strike="noStrike">
                <a:solidFill>
                  <a:srgbClr val="33ccff"/>
                </a:solidFill>
                <a:latin typeface="Arial"/>
                <a:ea typeface="ヒラギノ角ゴ Pro W3"/>
              </a:rPr>
              <a:t>or 90 days </a:t>
            </a:r>
            <a:r>
              <a:rPr b="0" i="1" lang="en-GB" sz="1100" spc="-1" strike="noStrike">
                <a:solidFill>
                  <a:srgbClr val="33ccff"/>
                </a:solidFill>
                <a:latin typeface="Arial"/>
                <a:ea typeface="ヒラギノ角ゴ Pro W3"/>
              </a:rPr>
              <a:t>(if  periodic report due from 1/1/2013)</a:t>
            </a:r>
            <a:r>
              <a:rPr b="0" i="1" lang="en-GB" sz="1400" spc="-1" strike="noStrike">
                <a:solidFill>
                  <a:srgbClr val="33ccff"/>
                </a:solidFill>
                <a:latin typeface="Arial"/>
                <a:ea typeface="ヒラギノ角ゴ Pro W3"/>
              </a:rPr>
              <a:t> of ‘AoR’ letter (minus suspension period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ccff"/>
              </a:buClr>
              <a:buFont typeface="Arial"/>
              <a:buAutoNum type="arabicPeriod" startAt="7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(*) GAs of Calls 2008 to 2011 unless amended for electronic submiss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12"/>
          <p:cNvSpPr/>
          <p:nvPr/>
        </p:nvSpPr>
        <p:spPr>
          <a:xfrm>
            <a:off x="314280" y="3478320"/>
            <a:ext cx="86965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4" descr="C:\Users\requean\AppData\Local\Microsoft\Windows\Temporary Internet Files\Content.IE5\PN37ILQ6\MC900434750[1].png"/>
          <p:cNvPicPr/>
          <p:nvPr/>
        </p:nvPicPr>
        <p:blipFill>
          <a:blip r:embed="rId1"/>
          <a:stretch/>
        </p:blipFill>
        <p:spPr>
          <a:xfrm>
            <a:off x="5380200" y="2162160"/>
            <a:ext cx="263520" cy="2649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C:\Users\requean\AppData\Local\Microsoft\Windows\Temporary Internet Files\Content.IE5\PN37ILQ6\MC900434750[1].png"/>
          <p:cNvPicPr/>
          <p:nvPr/>
        </p:nvPicPr>
        <p:blipFill>
          <a:blip r:embed="rId2"/>
          <a:stretch/>
        </p:blipFill>
        <p:spPr>
          <a:xfrm>
            <a:off x="3860640" y="5149800"/>
            <a:ext cx="270000" cy="27000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4" descr="C:\Users\requean\AppData\Local\Microsoft\Windows\Temporary Internet Files\Content.IE5\PN37ILQ6\MC900434750[1].png"/>
          <p:cNvPicPr/>
          <p:nvPr/>
        </p:nvPicPr>
        <p:blipFill>
          <a:blip r:embed="rId3"/>
          <a:stretch/>
        </p:blipFill>
        <p:spPr>
          <a:xfrm>
            <a:off x="2652840" y="4913280"/>
            <a:ext cx="280800" cy="281160"/>
          </a:xfrm>
          <a:prstGeom prst="rect">
            <a:avLst/>
          </a:prstGeom>
          <a:ln w="0">
            <a:noFill/>
          </a:ln>
        </p:spPr>
      </p:pic>
      <p:sp>
        <p:nvSpPr>
          <p:cNvPr id="1111" name="Rectangle 8"/>
          <p:cNvSpPr/>
          <p:nvPr/>
        </p:nvSpPr>
        <p:spPr>
          <a:xfrm>
            <a:off x="8623440" y="6593040"/>
            <a:ext cx="520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5"/>
          <p:cNvSpPr/>
          <p:nvPr/>
        </p:nvSpPr>
        <p:spPr>
          <a:xfrm>
            <a:off x="1400040" y="22716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4.b. The ex-post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ヒラギノ角ゴ Pro W3"/>
              </a:rPr>
              <a:t>audit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4"/>
          <p:cNvSpPr/>
          <p:nvPr/>
        </p:nvSpPr>
        <p:spPr>
          <a:xfrm>
            <a:off x="189000" y="1467000"/>
            <a:ext cx="89550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 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  <a:ea typeface="ヒラギノ角ゴ Pro W3"/>
              </a:rPr>
              <a:t>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Benefici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Audit Fi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Audit coordinator: PwC (NL), KPMG (DE), Littlejohn(U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Local audit 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: Ex-post audit t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Head of Finance/ Financial Officer/ Audit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 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  <a:ea typeface="ヒラギノ角ゴ Pro W3"/>
              </a:rPr>
              <a:t>Contac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Beneficiary: </a:t>
            </a: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contact person (to be) appoi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Audit Firm: </a:t>
            </a: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audit coordinator is the </a:t>
            </a:r>
            <a:r>
              <a:rPr b="1" lang="en-GB" sz="18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single</a:t>
            </a: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contact point with FCH 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: </a:t>
            </a: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Project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2"/>
          <p:cNvSpPr/>
          <p:nvPr/>
        </p:nvSpPr>
        <p:spPr>
          <a:xfrm>
            <a:off x="314280" y="3478320"/>
            <a:ext cx="86965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5"/>
          <p:cNvSpPr/>
          <p:nvPr/>
        </p:nvSpPr>
        <p:spPr>
          <a:xfrm>
            <a:off x="8604360" y="6475320"/>
            <a:ext cx="48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5"/>
          <p:cNvSpPr/>
          <p:nvPr/>
        </p:nvSpPr>
        <p:spPr>
          <a:xfrm>
            <a:off x="1400040" y="22716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4.b.The ex-post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ヒラギノ角ゴ Pro W3"/>
              </a:rPr>
              <a:t>audit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4"/>
          <p:cNvSpPr/>
          <p:nvPr/>
        </p:nvSpPr>
        <p:spPr>
          <a:xfrm>
            <a:off x="247680" y="1222200"/>
            <a:ext cx="8896320" cy="569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Key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 sends </a:t>
            </a:r>
            <a:r>
              <a:rPr b="1" lang="en-GB" sz="18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Announcement Letter</a:t>
            </a: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(A/L) to benefic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Beneficiary appoints a </a:t>
            </a:r>
            <a:r>
              <a:rPr b="1" lang="en-GB" sz="18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contact person</a:t>
            </a: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and communicate to audit 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Audit firm contacts beneficiary</a:t>
            </a: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to agree on date fieldwork &amp;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Start of audit fieldwork </a:t>
            </a:r>
            <a:r>
              <a:rPr b="0" i="1" lang="en-GB" sz="1400" spc="-1" strike="noStrike">
                <a:solidFill>
                  <a:srgbClr val="33ccff"/>
                </a:solidFill>
                <a:latin typeface="Arial"/>
                <a:ea typeface="ヒラギノ角ゴ Pro W3"/>
              </a:rPr>
              <a:t>(normally 20 days after 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Timely preparation of clear documents is key for an efficient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Execution of </a:t>
            </a:r>
            <a:r>
              <a:rPr b="1" lang="en-GB" sz="18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audit field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Exit meeting</a:t>
            </a: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‘beneficiary – auditor’ to discuss audit 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Draft audi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Beneficiary’s comments on Draft Report </a:t>
            </a:r>
            <a:r>
              <a:rPr b="0" i="1" lang="en-GB" sz="1400" spc="-1" strike="noStrike">
                <a:solidFill>
                  <a:srgbClr val="33ccff"/>
                </a:solidFill>
                <a:latin typeface="Arial"/>
                <a:ea typeface="ヒラギノ角ゴ Pro W3"/>
              </a:rPr>
              <a:t>(14 day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Pre-final (benef. comments if different adjustments) &amp; Final audi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 sends ‘</a:t>
            </a:r>
            <a:r>
              <a:rPr b="1" lang="en-GB" sz="18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Letter of conclusion</a:t>
            </a: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’ to benefic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 endorses final audit report </a:t>
            </a: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(i.e. adjustments on costs decla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 implements audit resul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8200" indent="-3427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Impact on FCH JU con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8200" indent="-3427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Liquidated damages </a:t>
            </a:r>
            <a:r>
              <a:rPr b="0" i="1" lang="en-GB" sz="14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(art. II. 24)</a:t>
            </a: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(Example!)</a:t>
            </a: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&amp; financial penalties </a:t>
            </a:r>
            <a:r>
              <a:rPr b="0" i="1" lang="en-GB" sz="14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(art II.2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38200" indent="-3427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Extrapolation (if systematic err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314280" y="3478320"/>
            <a:ext cx="86965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9" name="Picture 4" descr="C:\Users\requean\AppData\Local\Microsoft\Windows\Temporary Internet Files\Content.IE5\PN37ILQ6\MC900434750[1].png"/>
          <p:cNvPicPr/>
          <p:nvPr/>
        </p:nvPicPr>
        <p:blipFill>
          <a:blip r:embed="rId1"/>
          <a:stretch/>
        </p:blipFill>
        <p:spPr>
          <a:xfrm>
            <a:off x="7931160" y="3016080"/>
            <a:ext cx="285840" cy="287640"/>
          </a:xfrm>
          <a:prstGeom prst="rect">
            <a:avLst/>
          </a:prstGeom>
          <a:ln w="0">
            <a:noFill/>
          </a:ln>
        </p:spPr>
      </p:pic>
      <p:sp>
        <p:nvSpPr>
          <p:cNvPr id="1120" name="Rounded Rectangle 7"/>
          <p:cNvSpPr/>
          <p:nvPr/>
        </p:nvSpPr>
        <p:spPr>
          <a:xfrm>
            <a:off x="1749600" y="6313320"/>
            <a:ext cx="1355400" cy="347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6"/>
          <p:cNvSpPr/>
          <p:nvPr/>
        </p:nvSpPr>
        <p:spPr>
          <a:xfrm>
            <a:off x="8604360" y="6475320"/>
            <a:ext cx="48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Picture 4" descr="C:\Users\requean\AppData\Local\Microsoft\Windows\Temporary Internet Files\Content.IE5\PN37ILQ6\MC900434750[1].png"/>
          <p:cNvPicPr/>
          <p:nvPr/>
        </p:nvPicPr>
        <p:blipFill>
          <a:blip r:embed="rId2"/>
          <a:stretch/>
        </p:blipFill>
        <p:spPr>
          <a:xfrm>
            <a:off x="7405560" y="356076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5"/>
          <p:cNvSpPr/>
          <p:nvPr/>
        </p:nvSpPr>
        <p:spPr>
          <a:xfrm>
            <a:off x="1400040" y="22716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Example of Liquidated Damages (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4"/>
          <p:cNvSpPr/>
          <p:nvPr/>
        </p:nvSpPr>
        <p:spPr>
          <a:xfrm>
            <a:off x="247680" y="750960"/>
            <a:ext cx="8896320" cy="603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23800" indent="-3427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34272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12"/>
          <p:cNvSpPr/>
          <p:nvPr/>
        </p:nvSpPr>
        <p:spPr>
          <a:xfrm>
            <a:off x="314280" y="3478320"/>
            <a:ext cx="86965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6"/>
          <p:cNvSpPr/>
          <p:nvPr/>
        </p:nvSpPr>
        <p:spPr>
          <a:xfrm>
            <a:off x="8604360" y="6475320"/>
            <a:ext cx="48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2" descr=""/>
          <p:cNvPicPr/>
          <p:nvPr/>
        </p:nvPicPr>
        <p:blipFill>
          <a:blip r:embed="rId1"/>
          <a:stretch/>
        </p:blipFill>
        <p:spPr>
          <a:xfrm>
            <a:off x="3903840" y="3262320"/>
            <a:ext cx="1334880" cy="6397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8" descr=""/>
          <p:cNvPicPr/>
          <p:nvPr/>
        </p:nvPicPr>
        <p:blipFill>
          <a:blip r:embed="rId2"/>
          <a:stretch/>
        </p:blipFill>
        <p:spPr>
          <a:xfrm>
            <a:off x="247680" y="804960"/>
            <a:ext cx="5873760" cy="605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5"/>
          <p:cNvSpPr/>
          <p:nvPr/>
        </p:nvSpPr>
        <p:spPr>
          <a:xfrm>
            <a:off x="1400040" y="22716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4.b. The ex-post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ヒラギノ角ゴ Pro W3"/>
              </a:rPr>
              <a:t>audit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4"/>
          <p:cNvSpPr/>
          <p:nvPr/>
        </p:nvSpPr>
        <p:spPr>
          <a:xfrm>
            <a:off x="247680" y="1095480"/>
            <a:ext cx="8896320" cy="564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Extrapolation </a:t>
            </a:r>
            <a:r>
              <a:rPr b="0" i="1" lang="en-GB" sz="1800" spc="-1" strike="noStrike" u="sng">
                <a:solidFill>
                  <a:srgbClr val="00b050"/>
                </a:solidFill>
                <a:uFillTx/>
                <a:latin typeface="Arial"/>
              </a:rPr>
              <a:t>(i.e. extension of audit findings)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 u="sng">
                <a:solidFill>
                  <a:srgbClr val="3333ff"/>
                </a:solidFill>
                <a:uFillTx/>
                <a:latin typeface="Arial"/>
              </a:rPr>
              <a:t>What?</a:t>
            </a: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3333ff"/>
                </a:solidFill>
                <a:latin typeface="Arial"/>
              </a:rPr>
              <a:t>Only errors of ‘systematic’ n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 u="sng">
                <a:solidFill>
                  <a:srgbClr val="3333ff"/>
                </a:solidFill>
                <a:uFillTx/>
                <a:latin typeface="Arial"/>
              </a:rPr>
              <a:t>Wh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Non-audited cost claims may suffer from similar errors that need to be corr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GB" sz="1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But beneficiary can justify why other cost claims are NOT affected by the systematic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To reduce administrative burden on beneficiary &amp; JU linked with a new aud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 u="sng">
                <a:solidFill>
                  <a:srgbClr val="3333ff"/>
                </a:solidFill>
                <a:uFillTx/>
                <a:latin typeface="Arial"/>
              </a:rPr>
              <a:t>How?</a:t>
            </a: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 Beneficiary’s calculation based on 1 of the 3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6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Method 1</a:t>
            </a: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: </a:t>
            </a: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precise recalculation</a:t>
            </a: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of the costs affected by the systematic error in each of the non-audited cost claims </a:t>
            </a:r>
            <a:r>
              <a:rPr b="0" i="1" lang="en-GB" sz="1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( + supporting document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6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Method 2</a:t>
            </a: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: adjustment of the individual </a:t>
            </a: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cost category</a:t>
            </a: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affected by the systematic error by the application of a </a:t>
            </a: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flat rate</a:t>
            </a: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proposed by the FCH JU.</a:t>
            </a:r>
            <a:r>
              <a:rPr b="1" lang="en-GB" sz="1600" spc="-1" strike="noStrike" u="sng">
                <a:solidFill>
                  <a:srgbClr val="33cc33"/>
                </a:solidFill>
                <a:uFillTx/>
                <a:latin typeface="Arial"/>
                <a:ea typeface="ヒラギノ角ゴ Pro W3"/>
              </a:rPr>
              <a:t> 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6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Method 3</a:t>
            </a: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: application of an </a:t>
            </a: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overall flat rate</a:t>
            </a: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correction to the </a:t>
            </a: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total costs</a:t>
            </a: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proposed by the FCH JU.</a:t>
            </a:r>
            <a:r>
              <a:rPr b="1" lang="en-GB" sz="1600" spc="-1" strike="noStrike" u="sng">
                <a:solidFill>
                  <a:srgbClr val="33cc33"/>
                </a:solidFill>
                <a:uFillTx/>
                <a:latin typeface="Arial"/>
                <a:ea typeface="ヒラギノ角ゴ Pro W3"/>
              </a:rPr>
              <a:t> 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Method 2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:  not applicable if positive and negative systematic errors per cost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Methods 2 and 3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: other flat rates to those proposed by the JU are also possible </a:t>
            </a:r>
            <a:r>
              <a:rPr b="0" i="1" lang="en-GB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 new audit paid by benefici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3"/>
          <p:cNvSpPr/>
          <p:nvPr/>
        </p:nvSpPr>
        <p:spPr>
          <a:xfrm>
            <a:off x="8656560" y="6595920"/>
            <a:ext cx="48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5" descr=""/>
          <p:cNvPicPr/>
          <p:nvPr/>
        </p:nvPicPr>
        <p:blipFill>
          <a:blip r:embed="rId1"/>
          <a:stretch/>
        </p:blipFill>
        <p:spPr>
          <a:xfrm>
            <a:off x="1738440" y="4059360"/>
            <a:ext cx="5332320" cy="12589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6" descr=""/>
          <p:cNvPicPr/>
          <p:nvPr/>
        </p:nvPicPr>
        <p:blipFill>
          <a:blip r:embed="rId2"/>
          <a:stretch/>
        </p:blipFill>
        <p:spPr>
          <a:xfrm>
            <a:off x="2471760" y="5634000"/>
            <a:ext cx="5300640" cy="83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3"/>
          <p:cNvSpPr/>
          <p:nvPr/>
        </p:nvSpPr>
        <p:spPr>
          <a:xfrm>
            <a:off x="314280" y="1424160"/>
            <a:ext cx="851544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FCH JU control strategy: main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Ex-ante vs. Ex-post ver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FS (ex-ante) vs. Financial Audit (ex-p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Th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4.a. The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Arial"/>
                <a:ea typeface="ヒラギノ角ゴ Pro W3"/>
              </a:rPr>
              <a:t>ex-ante review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Actors / Contact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Key ste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4.b. The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Arial"/>
                <a:ea typeface="ヒラギノ角ゴ Pro W3"/>
              </a:rPr>
              <a:t>ex-post audit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Actors / Contact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Key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Extra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5"/>
          <p:cNvSpPr/>
          <p:nvPr/>
        </p:nvSpPr>
        <p:spPr>
          <a:xfrm>
            <a:off x="1400040" y="22716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3"/>
          <p:cNvSpPr/>
          <p:nvPr/>
        </p:nvSpPr>
        <p:spPr>
          <a:xfrm>
            <a:off x="8575560" y="6192720"/>
            <a:ext cx="254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5"/>
          <p:cNvSpPr/>
          <p:nvPr/>
        </p:nvSpPr>
        <p:spPr>
          <a:xfrm>
            <a:off x="1400040" y="22716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4.b. The ex-post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ヒラギノ角ゴ Pro W3"/>
              </a:rPr>
              <a:t>audit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4"/>
          <p:cNvSpPr/>
          <p:nvPr/>
        </p:nvSpPr>
        <p:spPr>
          <a:xfrm>
            <a:off x="262080" y="1914480"/>
            <a:ext cx="882936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Extrapolation (i.e. extension of audit findings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 u="sng">
                <a:solidFill>
                  <a:srgbClr val="3333ff"/>
                </a:solidFill>
                <a:uFillTx/>
                <a:latin typeface="Arial"/>
              </a:rPr>
              <a:t>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: proposes flat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Beneficiary: recalculates (Method 1) or confirms flat rates (Methods 2 or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Audit firm: ‘desk review’ of beneficiary’s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 u="sng">
                <a:solidFill>
                  <a:srgbClr val="3333ff"/>
                </a:solidFill>
                <a:uFillTx/>
                <a:latin typeface="Arial"/>
              </a:rPr>
              <a:t>Information to be provided by the beneficiary and tim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Projects not concerned by extrapolation (if applic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Method 1 (recalculations + supporting docs) / If methods 2 or 3 (confirm flat ra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The adjusting Form C (through FORCE and by post m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When? Within 30 calendar days of the date of the ‘Letter of Conclusion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3"/>
          <p:cNvSpPr/>
          <p:nvPr/>
        </p:nvSpPr>
        <p:spPr>
          <a:xfrm>
            <a:off x="8604360" y="6475320"/>
            <a:ext cx="48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5"/>
          <p:cNvSpPr/>
          <p:nvPr/>
        </p:nvSpPr>
        <p:spPr>
          <a:xfrm>
            <a:off x="1400040" y="22716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4.b. The ex-post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ヒラギノ角ゴ Pro W3"/>
              </a:rPr>
              <a:t>audit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247680" y="977760"/>
            <a:ext cx="8896320" cy="576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Some ‘tips’ for a successful ex-post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 u="sng">
                <a:solidFill>
                  <a:srgbClr val="3333ff"/>
                </a:solidFill>
                <a:uFillTx/>
                <a:latin typeface="Arial"/>
              </a:rPr>
              <a:t>Fieldwork</a:t>
            </a:r>
            <a:r>
              <a:rPr b="1" lang="en-GB" sz="1600" spc="-1" strike="noStrike">
                <a:solidFill>
                  <a:srgbClr val="3333ff"/>
                </a:solidFill>
                <a:latin typeface="Arial"/>
              </a:rPr>
              <a:t>: Agree with the auditors the dates of fieldwork AS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 u="sng">
                <a:solidFill>
                  <a:srgbClr val="3333ff"/>
                </a:solidFill>
                <a:uFillTx/>
                <a:latin typeface="Arial"/>
              </a:rPr>
              <a:t>Documents</a:t>
            </a:r>
            <a:r>
              <a:rPr b="1" lang="en-GB" sz="1600" spc="-1" strike="noStrike">
                <a:solidFill>
                  <a:srgbClr val="3333ff"/>
                </a:solidFill>
                <a:latin typeface="Arial"/>
              </a:rPr>
              <a:t> to be provided to auditor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Request the list of docs. ASAP and agree the deadline to send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Clarify with auditors, in case of doub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Respect deadline for submission of doc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 u="sng">
                <a:solidFill>
                  <a:srgbClr val="3333ff"/>
                </a:solidFill>
                <a:uFillTx/>
                <a:latin typeface="Arial"/>
              </a:rPr>
              <a:t>Exit meeting</a:t>
            </a:r>
            <a:r>
              <a:rPr b="1" lang="en-GB" sz="1600" spc="-1" strike="noStrike">
                <a:solidFill>
                  <a:srgbClr val="3333ff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Discuss findings with auditors at the end of Fieldwork &amp; before preparation of draft repor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Clarify your position in case of disagre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Agree on the systematic nature of the errors (impact on ‘extrapolation’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 u="sng">
                <a:solidFill>
                  <a:srgbClr val="3333ff"/>
                </a:solidFill>
                <a:uFillTx/>
                <a:latin typeface="Arial"/>
              </a:rPr>
              <a:t>Reporting (contradictory procedu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Provide comments to Draft report o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In case of disagreement, provide solid arguments and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 u="sng">
                <a:solidFill>
                  <a:srgbClr val="3333ff"/>
                </a:solidFill>
                <a:uFillTx/>
                <a:latin typeface="Arial"/>
              </a:rPr>
              <a:t>Letter of Conclus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Respect the 30 days deadline for any comment or additional documentation in case of extrapol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 u="sng">
                <a:solidFill>
                  <a:srgbClr val="3333ff"/>
                </a:solidFill>
                <a:uFillTx/>
                <a:latin typeface="Arial"/>
              </a:rPr>
              <a:t>If extrapo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Justify properly in case other cost claims are not aff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If Method 1: provide adequate supporting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 u="sng">
                <a:solidFill>
                  <a:srgbClr val="3333ff"/>
                </a:solidFill>
                <a:uFillTx/>
                <a:latin typeface="Arial"/>
              </a:rPr>
              <a:t>Lessons learnt</a:t>
            </a:r>
            <a:r>
              <a:rPr b="1" lang="en-GB" sz="1600" spc="-1" strike="noStrike">
                <a:solidFill>
                  <a:srgbClr val="3333ff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3333ff"/>
                </a:solidFill>
                <a:latin typeface="Arial"/>
              </a:rPr>
              <a:t>Ensure that errors identified in the ex-post audit are not present in future cost claim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3"/>
          <p:cNvSpPr/>
          <p:nvPr/>
        </p:nvSpPr>
        <p:spPr>
          <a:xfrm>
            <a:off x="8745480" y="6608880"/>
            <a:ext cx="48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3"/>
          <p:cNvSpPr/>
          <p:nvPr/>
        </p:nvSpPr>
        <p:spPr>
          <a:xfrm>
            <a:off x="314280" y="1424160"/>
            <a:ext cx="882972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Embraces the whole ‘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Grant Management cycle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Cal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Evaluation of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Negotiation and Signature of Grant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Projec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overs two main 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aspects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Sound financial management </a:t>
            </a:r>
            <a:r>
              <a:rPr b="0" i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(i.e. economy, effectiveness, effici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Legality and Regularity </a:t>
            </a:r>
            <a:r>
              <a:rPr b="0" i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(i.e. in accordance with ru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Is a combination of 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ex-ante and ex-post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ver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Actors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Internal: FCH JU Operations / Finance /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Ex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Independent experts (e.g. Mid Term Re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External auditors (CFS, Financial aud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Other bodies (Court of Auditors, OLAF, 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5"/>
          <p:cNvSpPr/>
          <p:nvPr/>
        </p:nvSpPr>
        <p:spPr>
          <a:xfrm>
            <a:off x="1400040" y="227160"/>
            <a:ext cx="77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1. FCH JU control strategy – main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ounded Rectangle 3"/>
          <p:cNvSpPr/>
          <p:nvPr/>
        </p:nvSpPr>
        <p:spPr>
          <a:xfrm>
            <a:off x="1155600" y="2940120"/>
            <a:ext cx="2743200" cy="312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ounded Rectangle 6"/>
          <p:cNvSpPr/>
          <p:nvPr/>
        </p:nvSpPr>
        <p:spPr>
          <a:xfrm>
            <a:off x="1155600" y="4051440"/>
            <a:ext cx="2589480" cy="323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ounded Rectangle 7"/>
          <p:cNvSpPr/>
          <p:nvPr/>
        </p:nvSpPr>
        <p:spPr>
          <a:xfrm>
            <a:off x="2143080" y="5157720"/>
            <a:ext cx="4092480" cy="324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ounded Rectangle 8"/>
          <p:cNvSpPr/>
          <p:nvPr/>
        </p:nvSpPr>
        <p:spPr>
          <a:xfrm>
            <a:off x="1585800" y="6012000"/>
            <a:ext cx="4586400" cy="323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ounded Rectangle 9"/>
          <p:cNvSpPr/>
          <p:nvPr/>
        </p:nvSpPr>
        <p:spPr>
          <a:xfrm>
            <a:off x="128520" y="1039680"/>
            <a:ext cx="1457280" cy="384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Focus of presentation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0"/>
          <p:cNvSpPr/>
          <p:nvPr/>
        </p:nvSpPr>
        <p:spPr>
          <a:xfrm>
            <a:off x="8624880" y="6410160"/>
            <a:ext cx="25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3"/>
          <p:cNvSpPr/>
          <p:nvPr/>
        </p:nvSpPr>
        <p:spPr>
          <a:xfrm>
            <a:off x="314280" y="1731960"/>
            <a:ext cx="851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1400040" y="22716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2. Ex-ante vs. Ex-pos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ver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9" name=""/>
          <p:cNvGraphicFramePr/>
          <p:nvPr/>
        </p:nvGraphicFramePr>
        <p:xfrm>
          <a:off x="534960" y="1641600"/>
          <a:ext cx="8074080" cy="4278240"/>
        </p:xfrm>
        <a:graphic>
          <a:graphicData uri="http://schemas.openxmlformats.org/drawingml/2006/table">
            <a:tbl>
              <a:tblPr/>
              <a:tblGrid>
                <a:gridCol w="1494000"/>
                <a:gridCol w="3473280"/>
                <a:gridCol w="3106800"/>
              </a:tblGrid>
              <a:tr h="44136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'Ex-ante'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'Ex-post'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1732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 u="sng">
                          <a:solidFill>
                            <a:srgbClr val="33cc33"/>
                          </a:solidFill>
                          <a:uFillTx/>
                          <a:latin typeface="Times New Roman"/>
                          <a:ea typeface="Times New Roman"/>
                        </a:rPr>
                        <a:t>Befo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he transaction is author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 u="sng">
                          <a:solidFill>
                            <a:srgbClr val="33cc33"/>
                          </a:solidFill>
                          <a:uFillTx/>
                          <a:latin typeface="Times New Roman"/>
                          <a:ea typeface="Times New Roman"/>
                        </a:rPr>
                        <a:t>After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he transaction is authorised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up to 5 years after the end of the projec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y on </a:t>
                      </a:r>
                      <a:r>
                        <a:rPr b="1" lang="en-GB" sz="1400" spc="-1" strike="noStrike" u="sng">
                          <a:solidFill>
                            <a:srgbClr val="33cc33"/>
                          </a:solidFill>
                          <a:uFillTx/>
                          <a:latin typeface="Times New Roman"/>
                          <a:ea typeface="Times New Roman"/>
                        </a:rPr>
                        <a:t>all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rans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ry out on a </a:t>
                      </a:r>
                      <a:r>
                        <a:rPr b="1" lang="en-GB" sz="1400" spc="-1" strike="noStrike" u="sng">
                          <a:solidFill>
                            <a:srgbClr val="33cc33"/>
                          </a:solidFill>
                          <a:uFillTx/>
                          <a:latin typeface="Times New Roman"/>
                          <a:ea typeface="Times New Roman"/>
                        </a:rPr>
                        <a:t>sampl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a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nly </a:t>
                      </a:r>
                      <a:r>
                        <a:rPr b="1" lang="en-GB" sz="1400" spc="-1" strike="noStrike" u="sng">
                          <a:solidFill>
                            <a:srgbClr val="33cc33"/>
                          </a:solidFill>
                          <a:uFillTx/>
                          <a:latin typeface="Times New Roman"/>
                          <a:ea typeface="Times New Roman"/>
                        </a:rPr>
                        <a:t>desk review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f docume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 u="sng">
                          <a:solidFill>
                            <a:srgbClr val="33cc33"/>
                          </a:solidFill>
                          <a:uFillTx/>
                          <a:latin typeface="Times New Roman"/>
                          <a:ea typeface="Times New Roman"/>
                        </a:rPr>
                        <a:t>On-the-spo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ecks at beneficiary's premis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/Sourc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ct periodic repo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 term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rtificates methodology (CoM) / CoMa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rtificates on Financial Statements – C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ical audits or revie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cial au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ac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s detected are corrected, by the beneficiary (new Form C) or by the JU (ineligible costs), </a:t>
                      </a:r>
                      <a:r>
                        <a:rPr b="1" lang="en-GB" sz="1400" spc="-1" strike="noStrike" u="sng">
                          <a:solidFill>
                            <a:srgbClr val="33cc33"/>
                          </a:solidFill>
                          <a:uFillTx/>
                          <a:latin typeface="Times New Roman"/>
                          <a:ea typeface="Times New Roman"/>
                        </a:rPr>
                        <a:t>befo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he transaction is approv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s detected are corrected </a:t>
                      </a:r>
                      <a:r>
                        <a:rPr b="1" lang="en-GB" sz="1400" spc="-1" strike="noStrike" u="sng">
                          <a:solidFill>
                            <a:srgbClr val="33cc33"/>
                          </a:solidFill>
                          <a:uFillTx/>
                          <a:latin typeface="Times New Roman"/>
                          <a:ea typeface="Times New Roman"/>
                        </a:rPr>
                        <a:t>after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he transaction is approved and undue amounts are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ecove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0" name="Rounded Rectangle 4"/>
          <p:cNvSpPr/>
          <p:nvPr/>
        </p:nvSpPr>
        <p:spPr>
          <a:xfrm>
            <a:off x="2340000" y="4711680"/>
            <a:ext cx="3132000" cy="317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ounded Rectangle 5"/>
          <p:cNvSpPr/>
          <p:nvPr/>
        </p:nvSpPr>
        <p:spPr>
          <a:xfrm>
            <a:off x="5524560" y="4130640"/>
            <a:ext cx="1417680" cy="228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2" name="Straight Arrow Connector 15"/>
          <p:cNvCxnSpPr/>
          <p:nvPr/>
        </p:nvCxnSpPr>
        <p:spPr>
          <a:xfrm>
            <a:off x="5202000" y="5032080"/>
            <a:ext cx="1080" cy="11527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53" name="Straight Arrow Connector 18"/>
          <p:cNvCxnSpPr/>
          <p:nvPr/>
        </p:nvCxnSpPr>
        <p:spPr>
          <a:xfrm>
            <a:off x="6279840" y="4358880"/>
            <a:ext cx="1080" cy="18262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54" name="TextBox 20"/>
          <p:cNvSpPr/>
          <p:nvPr/>
        </p:nvSpPr>
        <p:spPr>
          <a:xfrm>
            <a:off x="4734000" y="6108840"/>
            <a:ext cx="4143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1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Cost Eligibility</a:t>
            </a:r>
            <a:r>
              <a:rPr b="0" lang="en-GB" sz="11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: Costs charged to the project in accordance with FCH JU Grant Agre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9"/>
          <p:cNvSpPr/>
          <p:nvPr/>
        </p:nvSpPr>
        <p:spPr>
          <a:xfrm>
            <a:off x="8624880" y="6410160"/>
            <a:ext cx="25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Picture 4" descr="C:\Users\requean\AppData\Local\Microsoft\Windows\Temporary Internet Files\Content.IE5\PN37ILQ6\MC900434750[1].png"/>
          <p:cNvPicPr/>
          <p:nvPr/>
        </p:nvPicPr>
        <p:blipFill>
          <a:blip r:embed="rId1"/>
          <a:stretch/>
        </p:blipFill>
        <p:spPr>
          <a:xfrm>
            <a:off x="190440" y="6033960"/>
            <a:ext cx="344520" cy="343080"/>
          </a:xfrm>
          <a:prstGeom prst="rect">
            <a:avLst/>
          </a:prstGeom>
          <a:ln w="0">
            <a:noFill/>
          </a:ln>
        </p:spPr>
      </p:pic>
      <p:sp>
        <p:nvSpPr>
          <p:cNvPr id="1057" name="TextBox 20"/>
          <p:cNvSpPr/>
          <p:nvPr/>
        </p:nvSpPr>
        <p:spPr>
          <a:xfrm>
            <a:off x="534960" y="6087960"/>
            <a:ext cx="41990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1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FAQs:</a:t>
            </a:r>
            <a:r>
              <a:rPr b="0" lang="en-GB" sz="11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Certificates issued by external auditors (CFS/CoM/CoMav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 u="sng">
                <a:solidFill>
                  <a:srgbClr val="0000ff"/>
                </a:solidFill>
                <a:uFillTx/>
                <a:latin typeface="Arial"/>
                <a:ea typeface="ヒラギノ角ゴ Pro W3"/>
                <a:hlinkClick r:id="rId2"/>
              </a:rPr>
              <a:t>http://www.fch-ju.eu/content/how-participate-fch-ju-projec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3"/>
          <p:cNvSpPr/>
          <p:nvPr/>
        </p:nvSpPr>
        <p:spPr>
          <a:xfrm>
            <a:off x="314280" y="1731960"/>
            <a:ext cx="851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5"/>
          <p:cNvSpPr/>
          <p:nvPr/>
        </p:nvSpPr>
        <p:spPr>
          <a:xfrm>
            <a:off x="1400040" y="22716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3. CFS vs. Financial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0" name=""/>
          <p:cNvGraphicFramePr/>
          <p:nvPr/>
        </p:nvGraphicFramePr>
        <p:xfrm>
          <a:off x="141120" y="1522440"/>
          <a:ext cx="8915400" cy="4476600"/>
        </p:xfrm>
        <a:graphic>
          <a:graphicData uri="http://schemas.openxmlformats.org/drawingml/2006/table">
            <a:tbl>
              <a:tblPr/>
              <a:tblGrid>
                <a:gridCol w="860760"/>
                <a:gridCol w="4043160"/>
                <a:gridCol w="4011480"/>
              </a:tblGrid>
              <a:tr h="33336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‘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FS’ (ex-ant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‘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cial Audit’ (ex-po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504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gal Bas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lvl="1"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t Agreement (article II.4.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lvl="1"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t Agreement (article II.2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e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 above thresholds </a:t>
                      </a:r>
                      <a:r>
                        <a:rPr b="1" lang="en-GB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(Example!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im payments: JU contribution &gt;= 325.00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l payments: JU contribution &gt; 50.00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 selected by FCH J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resent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sk-ba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Objective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Costs &amp; receipts declared in accordance with 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cope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Agreed Upon Proced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Outpu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ependent report of factual findings (incl. ToR &amp; ta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Model (GA, Form 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Objective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Costs &amp; receipts declared in accordance with G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cope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Financial Aud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Outpu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dit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Model (agreed with audit firm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o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ditor selected by benefici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ependent from the benefici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Qualify to carry out statutory audit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Special case: public bodies, secondary and higher education establishments and research organisations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 Competent public officer  (legal capacity &amp; independent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CH JU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amework contract with 3 External Audit Fi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waterhouseCoopers (Pw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P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tlejohn (POLARI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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lict of Interest (‘CoI’) chec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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 3 firms declare CoI, use of DG BUDG contra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d by benefici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lared by the beneficiary as eligible costs </a:t>
                      </a:r>
                      <a:r>
                        <a:rPr b="1" lang="en-GB" sz="1200" spc="-1" strike="noStrike">
                          <a:solidFill>
                            <a:srgbClr val="33cc33"/>
                          </a:solidFill>
                          <a:latin typeface="Times New Roman"/>
                          <a:ea typeface="Times New Roman"/>
                        </a:rPr>
                        <a:t>(*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imbursed by the JU at the corresponding funding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d by FCH J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1" name="Rounded Rectangle 4"/>
          <p:cNvSpPr/>
          <p:nvPr/>
        </p:nvSpPr>
        <p:spPr>
          <a:xfrm>
            <a:off x="5419800" y="3684600"/>
            <a:ext cx="2344680" cy="18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ounded Rectangle 5"/>
          <p:cNvSpPr/>
          <p:nvPr/>
        </p:nvSpPr>
        <p:spPr>
          <a:xfrm>
            <a:off x="1344600" y="3684600"/>
            <a:ext cx="1454040" cy="185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6"/>
          <p:cNvSpPr/>
          <p:nvPr/>
        </p:nvSpPr>
        <p:spPr>
          <a:xfrm>
            <a:off x="8624880" y="6410160"/>
            <a:ext cx="25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"/>
          <p:cNvSpPr/>
          <p:nvPr/>
        </p:nvSpPr>
        <p:spPr>
          <a:xfrm>
            <a:off x="314280" y="6056280"/>
            <a:ext cx="78836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(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3333ff"/>
                </a:solidFill>
                <a:latin typeface="Arial"/>
              </a:rPr>
              <a:t>Costs incurred for the CFS issued by the </a:t>
            </a:r>
            <a:r>
              <a:rPr b="1" i="1" lang="en-US" sz="800" spc="-1" strike="noStrike">
                <a:solidFill>
                  <a:srgbClr val="3333ff"/>
                </a:solidFill>
                <a:latin typeface="Arial"/>
              </a:rPr>
              <a:t>external auditors</a:t>
            </a:r>
            <a:r>
              <a:rPr b="0" i="1" lang="en-US" sz="800" spc="-1" strike="noStrike">
                <a:solidFill>
                  <a:srgbClr val="3333ff"/>
                </a:solidFill>
                <a:latin typeface="Arial"/>
              </a:rPr>
              <a:t> are eligible direct costs charged under the "</a:t>
            </a:r>
            <a:r>
              <a:rPr b="1" i="1" lang="en-US" sz="800" spc="-1" strike="noStrike">
                <a:solidFill>
                  <a:srgbClr val="3333ff"/>
                </a:solidFill>
                <a:latin typeface="Arial"/>
              </a:rPr>
              <a:t>Management</a:t>
            </a:r>
            <a:r>
              <a:rPr b="0" i="1" lang="en-US" sz="800" spc="-1" strike="noStrike">
                <a:solidFill>
                  <a:srgbClr val="3333ff"/>
                </a:solidFill>
                <a:latin typeface="Arial"/>
              </a:rPr>
              <a:t>" activity in the "</a:t>
            </a:r>
            <a:r>
              <a:rPr b="1" i="1" lang="en-US" sz="800" spc="-1" strike="noStrike">
                <a:solidFill>
                  <a:srgbClr val="3333ff"/>
                </a:solidFill>
                <a:latin typeface="Arial"/>
              </a:rPr>
              <a:t>Subcontracting</a:t>
            </a:r>
            <a:r>
              <a:rPr b="0" i="1" lang="en-US" sz="800" spc="-1" strike="noStrike">
                <a:solidFill>
                  <a:srgbClr val="3333ff"/>
                </a:solidFill>
                <a:latin typeface="Arial"/>
              </a:rPr>
              <a:t>" catego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3333ff"/>
                </a:solidFill>
                <a:latin typeface="Arial"/>
              </a:rPr>
              <a:t>However the costs for the CFS established by the </a:t>
            </a:r>
            <a:r>
              <a:rPr b="1" i="1" lang="en-US" sz="800" spc="-1" strike="noStrike">
                <a:solidFill>
                  <a:srgbClr val="3333ff"/>
                </a:solidFill>
                <a:latin typeface="Arial"/>
              </a:rPr>
              <a:t>competent public officers</a:t>
            </a:r>
            <a:r>
              <a:rPr b="0" i="1" lang="en-US" sz="800" spc="-1" strike="noStrike">
                <a:solidFill>
                  <a:srgbClr val="3333ff"/>
                </a:solidFill>
                <a:latin typeface="Arial"/>
              </a:rPr>
              <a:t> can be treated as "</a:t>
            </a:r>
            <a:r>
              <a:rPr b="1" i="1" lang="en-US" sz="800" spc="-1" strike="noStrike">
                <a:solidFill>
                  <a:srgbClr val="3333ff"/>
                </a:solidFill>
                <a:latin typeface="Arial"/>
              </a:rPr>
              <a:t>Other direct costs</a:t>
            </a:r>
            <a:r>
              <a:rPr b="0" i="1" lang="en-US" sz="800" spc="-1" strike="noStrike">
                <a:solidFill>
                  <a:srgbClr val="3333ff"/>
                </a:solidFill>
                <a:latin typeface="Arial"/>
              </a:rPr>
              <a:t>" under the "</a:t>
            </a:r>
            <a:r>
              <a:rPr b="1" i="1" lang="en-US" sz="800" spc="-1" strike="noStrike">
                <a:solidFill>
                  <a:srgbClr val="3333ff"/>
                </a:solidFill>
                <a:latin typeface="Arial"/>
              </a:rPr>
              <a:t>Management" </a:t>
            </a:r>
            <a:r>
              <a:rPr b="0" i="1" lang="en-US" sz="800" spc="-1" strike="noStrike">
                <a:solidFill>
                  <a:srgbClr val="3333ff"/>
                </a:solidFill>
                <a:latin typeface="Arial"/>
              </a:rPr>
              <a:t>activity. Where it is the usual practice of the beneficiary to consider these costs as indirect costs, they cannot be charged as direct eligible cos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3"/>
          <p:cNvSpPr/>
          <p:nvPr/>
        </p:nvSpPr>
        <p:spPr>
          <a:xfrm>
            <a:off x="314280" y="985680"/>
            <a:ext cx="8829720" cy="31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1400040" y="227160"/>
            <a:ext cx="77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FS  - Example of thres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5"/>
          <p:cNvSpPr/>
          <p:nvPr/>
        </p:nvSpPr>
        <p:spPr>
          <a:xfrm>
            <a:off x="8624880" y="6410160"/>
            <a:ext cx="25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8" name=""/>
          <p:cNvGraphicFramePr/>
          <p:nvPr/>
        </p:nvGraphicFramePr>
        <p:xfrm>
          <a:off x="480960" y="1419120"/>
          <a:ext cx="8271000" cy="2401920"/>
        </p:xfrm>
        <a:graphic>
          <a:graphicData uri="http://schemas.openxmlformats.org/drawingml/2006/table">
            <a:tbl>
              <a:tblPr/>
              <a:tblGrid>
                <a:gridCol w="781200"/>
                <a:gridCol w="1976400"/>
                <a:gridCol w="1152360"/>
                <a:gridCol w="1603440"/>
                <a:gridCol w="1379520"/>
                <a:gridCol w="137808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laim N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ligible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FCH JU contrib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umulative amount for which a CFS has NOT been submit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FS requi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o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38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19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19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41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205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395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5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25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25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35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175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425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(fin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6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3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3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069" name="Picture 10" descr=""/>
          <p:cNvPicPr/>
          <p:nvPr/>
        </p:nvPicPr>
        <p:blipFill>
          <a:blip r:embed="rId1"/>
          <a:stretch/>
        </p:blipFill>
        <p:spPr>
          <a:xfrm>
            <a:off x="77760" y="4295880"/>
            <a:ext cx="8877240" cy="20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3"/>
          <p:cNvSpPr/>
          <p:nvPr/>
        </p:nvSpPr>
        <p:spPr>
          <a:xfrm>
            <a:off x="314280" y="985680"/>
            <a:ext cx="8829720" cy="31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5"/>
          <p:cNvSpPr/>
          <p:nvPr/>
        </p:nvSpPr>
        <p:spPr>
          <a:xfrm>
            <a:off x="1400040" y="227160"/>
            <a:ext cx="77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FS - Example of thresholds if Ex-post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8624880" y="6410160"/>
            <a:ext cx="25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3" name=""/>
          <p:cNvGraphicFramePr/>
          <p:nvPr/>
        </p:nvGraphicFramePr>
        <p:xfrm>
          <a:off x="396720" y="2610000"/>
          <a:ext cx="8271000" cy="2031840"/>
        </p:xfrm>
        <a:graphic>
          <a:graphicData uri="http://schemas.openxmlformats.org/drawingml/2006/table">
            <a:tbl>
              <a:tblPr/>
              <a:tblGrid>
                <a:gridCol w="781200"/>
                <a:gridCol w="1976400"/>
                <a:gridCol w="1152720"/>
                <a:gridCol w="1603080"/>
                <a:gridCol w="1379520"/>
                <a:gridCol w="137808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laim N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ligible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FCH JU contrib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umulative amount for which a CFS has NOT been submit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FS requi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o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4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2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2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 gridSpan="6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CH JU (ex-post) audit covering EUR 400,000 (including 200,000 of FCH JU contributi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25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125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125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(fin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2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1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R 225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074" name="Picture 2" descr=""/>
          <p:cNvPicPr/>
          <p:nvPr/>
        </p:nvPicPr>
        <p:blipFill>
          <a:blip r:embed="rId1"/>
          <a:stretch/>
        </p:blipFill>
        <p:spPr>
          <a:xfrm>
            <a:off x="196920" y="4808520"/>
            <a:ext cx="8877240" cy="1276200"/>
          </a:xfrm>
          <a:prstGeom prst="rect">
            <a:avLst/>
          </a:prstGeom>
          <a:ln w="0">
            <a:noFill/>
          </a:ln>
        </p:spPr>
      </p:pic>
      <p:sp>
        <p:nvSpPr>
          <p:cNvPr id="1075" name="Rectangle 2"/>
          <p:cNvSpPr/>
          <p:nvPr/>
        </p:nvSpPr>
        <p:spPr>
          <a:xfrm>
            <a:off x="314280" y="1343160"/>
            <a:ext cx="843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1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  <a:ea typeface="ヒラギノ角ゴ Pro W3"/>
              </a:rPr>
              <a:t>Principl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1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Costs covered by ‘ex-post audit’ are not subject to CFS  and related JU contribution is excluded from the calculation of the thresholds for C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3"/>
          <p:cNvSpPr/>
          <p:nvPr/>
        </p:nvSpPr>
        <p:spPr>
          <a:xfrm>
            <a:off x="243000" y="1471680"/>
            <a:ext cx="882972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Model: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Form D </a:t>
            </a:r>
            <a:r>
              <a:rPr b="1" lang="en-GB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updated Jun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Content: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3 documents </a:t>
            </a:r>
            <a:r>
              <a:rPr b="1" lang="en-GB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Independent report of factual finding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Signed by au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Terms of re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Signed by beneficiary &amp; auditor and appended to auditor’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Table of proced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Completed by auditor and appended to auditor’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The independent report of factual findings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(*)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 u="sng">
                <a:solidFill>
                  <a:srgbClr val="003399"/>
                </a:solidFill>
                <a:uFillTx/>
                <a:latin typeface="Arial"/>
                <a:ea typeface="ヒラギノ角ゴ Pro W3"/>
              </a:rPr>
              <a:t>Scope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: Agreed procedures (no audit) on costs declared (Form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 u="sng">
                <a:solidFill>
                  <a:srgbClr val="003399"/>
                </a:solidFill>
                <a:uFillTx/>
                <a:latin typeface="Arial"/>
                <a:ea typeface="ヒラギノ角ゴ Pro W3"/>
              </a:rPr>
              <a:t>Results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How? List of exceptions 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(e.g. no time records available, subcontracting not specified in Annex 1 of GA, costs not allocated to project.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Impact: 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FCH JU uses this information 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to draw conclusions 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on eligibility of costs claimed and decide the amounts to be paid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5"/>
          <p:cNvSpPr/>
          <p:nvPr/>
        </p:nvSpPr>
        <p:spPr>
          <a:xfrm>
            <a:off x="1400040" y="227160"/>
            <a:ext cx="77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3. CFS (ex-a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8" name="Picture 4" descr="C:\Users\requean\AppData\Local\Microsoft\Windows\Temporary Internet Files\Content.IE5\PN37ILQ6\MC900434750[1].png"/>
          <p:cNvPicPr/>
          <p:nvPr/>
        </p:nvPicPr>
        <p:blipFill>
          <a:blip r:embed="rId1"/>
          <a:stretch/>
        </p:blipFill>
        <p:spPr>
          <a:xfrm>
            <a:off x="6499080" y="2355840"/>
            <a:ext cx="344520" cy="344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C:\Users\requean\AppData\Local\Microsoft\Windows\Temporary Internet Files\Content.IE5\PN37ILQ6\MC900434750[1].png"/>
          <p:cNvPicPr/>
          <p:nvPr/>
        </p:nvPicPr>
        <p:blipFill>
          <a:blip r:embed="rId2"/>
          <a:stretch/>
        </p:blipFill>
        <p:spPr>
          <a:xfrm>
            <a:off x="6006960" y="1854360"/>
            <a:ext cx="344520" cy="344160"/>
          </a:xfrm>
          <a:prstGeom prst="rect">
            <a:avLst/>
          </a:prstGeom>
          <a:ln w="0">
            <a:noFill/>
          </a:ln>
        </p:spPr>
      </p:pic>
      <p:sp>
        <p:nvSpPr>
          <p:cNvPr id="1080" name="Rectangle 5"/>
          <p:cNvSpPr/>
          <p:nvPr/>
        </p:nvSpPr>
        <p:spPr>
          <a:xfrm>
            <a:off x="8624880" y="6410160"/>
            <a:ext cx="25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3"/>
          <p:cNvSpPr/>
          <p:nvPr/>
        </p:nvSpPr>
        <p:spPr>
          <a:xfrm>
            <a:off x="243000" y="1163520"/>
            <a:ext cx="8901000" cy="20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5"/>
          <p:cNvSpPr/>
          <p:nvPr/>
        </p:nvSpPr>
        <p:spPr>
          <a:xfrm>
            <a:off x="1400040" y="227160"/>
            <a:ext cx="77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3. CFS (Independent rep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5"/>
          <p:cNvSpPr/>
          <p:nvPr/>
        </p:nvSpPr>
        <p:spPr>
          <a:xfrm>
            <a:off x="8624880" y="6410160"/>
            <a:ext cx="25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Picture 2" descr=""/>
          <p:cNvPicPr/>
          <p:nvPr/>
        </p:nvPicPr>
        <p:blipFill>
          <a:blip r:embed="rId1"/>
          <a:stretch/>
        </p:blipFill>
        <p:spPr>
          <a:xfrm>
            <a:off x="266760" y="938160"/>
            <a:ext cx="8353440" cy="54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2:49:52Z</dcterms:created>
  <dc:creator>Sabine Bauwens</dc:creator>
  <dc:description/>
  <dc:language>en-US</dc:language>
  <cp:lastModifiedBy>PADUREAN Alexandru ( FCH )</cp:lastModifiedBy>
  <cp:lastPrinted>2013-10-04T08:05:40Z</cp:lastPrinted>
  <dcterms:modified xsi:type="dcterms:W3CDTF">2015-05-29T13:08:57Z</dcterms:modified>
  <cp:revision>599</cp:revision>
  <dc:subject/>
  <dc:title>Slide 1</dc:title>
</cp:coreProperties>
</file>