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890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776760" y="9427680"/>
            <a:ext cx="2890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6F31-28B4-4975-8476-D5BC144FA4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BE19-D4F5-4851-9EE2-64F167598E5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12963AF0-68FF-4047-ABFB-9714431A1796}" type="slidenum">
              <a:rPr b="0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C0E5-DF91-4DE8-91DE-E27FDAF63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09600" y="-9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4253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3314-2C6E-4107-9DFA-BDD9AF6B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09600" y="-9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425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425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48D2-9A1E-4A5E-B8C2-D0524536B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09600" y="-9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425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2425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2425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58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58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58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64E6-4E1B-4F18-A2EB-097068BCC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9600" y="-9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2425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17BA-B9EA-40B2-815E-A45989BD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9600" y="-9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425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3F33-E229-46B9-B649-424D5C59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09600" y="-9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25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2425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EC5A-0E12-497F-8B3F-E4B07568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9600" y="-9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723D-39B0-49E3-8758-414379BD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09600" y="-98640"/>
            <a:ext cx="7477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06FD-926A-4269-B6B0-BF28BB52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09600" y="-9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425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425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0393-AAB2-4A42-AEAB-43E4AF20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09600" y="-9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425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425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D949-827D-46C4-9302-A7155AC2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09600" y="-9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425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425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B2B3-63D6-49A1-930C-05443D3A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FCH JU - Power Point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09600" y="-9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425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194c8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94c8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8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94c8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94c8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94c8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94c8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94c8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94c8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3EEC-AC1B-47EE-A1E6-CA1C0C80C8B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9"/>
          <p:cNvSpPr/>
          <p:nvPr/>
        </p:nvSpPr>
        <p:spPr>
          <a:xfrm>
            <a:off x="2535120" y="49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ew-ig.eu/" TargetMode="External"/><Relationship Id="rId2" Type="http://schemas.openxmlformats.org/officeDocument/2006/relationships/hyperlink" Target="http://www.nerghy.eu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7"/>
          <p:cNvSpPr/>
          <p:nvPr/>
        </p:nvSpPr>
        <p:spPr>
          <a:xfrm>
            <a:off x="431640" y="1916280"/>
            <a:ext cx="824076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Arial"/>
              </a:rPr>
              <a:t>Membership Opportunit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Arial"/>
              </a:rPr>
              <a:t>in NEW-IG and N.ERG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2060"/>
                </a:solidFill>
                <a:latin typeface="Arial"/>
              </a:rPr>
              <a:t>Ivana Jemelkova, NEW-IG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2060"/>
                </a:solidFill>
                <a:latin typeface="Arial"/>
              </a:rPr>
              <a:t>Brussels, 10 July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843280" y="189000"/>
            <a:ext cx="612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FCH 2 JU Info D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NEW-IG logo small"/>
          <p:cNvPicPr/>
          <p:nvPr/>
        </p:nvPicPr>
        <p:blipFill>
          <a:blip r:embed="rId1"/>
          <a:stretch/>
        </p:blipFill>
        <p:spPr>
          <a:xfrm>
            <a:off x="826920" y="2154240"/>
            <a:ext cx="2953080" cy="1214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N"/>
          <p:cNvPicPr/>
          <p:nvPr/>
        </p:nvPicPr>
        <p:blipFill>
          <a:blip r:embed="rId2"/>
          <a:stretch/>
        </p:blipFill>
        <p:spPr>
          <a:xfrm>
            <a:off x="5454720" y="2212920"/>
            <a:ext cx="25318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95280" y="3031920"/>
            <a:ext cx="5616720" cy="34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70c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0070c0"/>
                </a:solidFill>
                <a:latin typeface="Arial"/>
              </a:rPr>
              <a:t>Engaging with key European stakeholders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o increase their understanding and support of FCH technologies and their market deployment</a:t>
            </a:r>
            <a:endParaRPr b="0" lang="en-US" sz="1700" spc="-1" strike="noStrike">
              <a:solidFill>
                <a:srgbClr val="194c84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194c84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0070c0"/>
                </a:solidFill>
                <a:latin typeface="Arial"/>
              </a:rPr>
              <a:t>Helping define the FCH role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 the future EU energy and transport system, voicing FCH sector’s position on EU strategies in other key dossiers (e.g. innovation, budget, environment) </a:t>
            </a:r>
            <a:endParaRPr b="0" lang="en-US" sz="1700" spc="-1" strike="noStrike">
              <a:solidFill>
                <a:srgbClr val="194c84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194c84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0070c0"/>
                </a:solidFill>
                <a:latin typeface="Arial"/>
              </a:rPr>
              <a:t>Increasing visibility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f FCH-related topics through the implementation of a wide range of communication activities and organization of events</a:t>
            </a:r>
            <a:endParaRPr b="0" lang="en-US" sz="17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D59D-0B9C-4111-B3BE-254B237B383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69880" y="0"/>
            <a:ext cx="7477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Arial"/>
              </a:rPr>
              <a:t>Shaping EU policies</a:t>
            </a:r>
            <a:endParaRPr b="0" lang="en-US" sz="38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276120" y="2060640"/>
            <a:ext cx="674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NEW-IG is advocating to support visibility and influence of FCH topics in Europ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tretch/>
        </p:blipFill>
        <p:spPr>
          <a:xfrm>
            <a:off x="306360" y="260280"/>
            <a:ext cx="2089080" cy="1390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http://www.new-ig.eu/uploads/ModuleXtender/Photogallery/13/images/high/IMG_5281.jpg"/>
          <p:cNvPicPr/>
          <p:nvPr/>
        </p:nvPicPr>
        <p:blipFill>
          <a:blip r:embed="rId2"/>
          <a:stretch/>
        </p:blipFill>
        <p:spPr>
          <a:xfrm>
            <a:off x="6199200" y="2844720"/>
            <a:ext cx="2747880" cy="1832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http://www.new-ig.eu/uploads/ModuleXtender/Photogallery/13/images/high/IMG_5096.jpg"/>
          <p:cNvPicPr/>
          <p:nvPr/>
        </p:nvPicPr>
        <p:blipFill>
          <a:blip r:embed="rId3"/>
          <a:stretch/>
        </p:blipFill>
        <p:spPr>
          <a:xfrm>
            <a:off x="6210360" y="4724280"/>
            <a:ext cx="2736720" cy="18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1104840" y="5661000"/>
            <a:ext cx="7058160" cy="64620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09600" y="-9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IG membership fees</a:t>
            </a:r>
            <a:endParaRPr b="0" lang="en-US" sz="32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46040" y="2060640"/>
            <a:ext cx="8229600" cy="4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-12672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70c0"/>
                </a:solidFill>
                <a:latin typeface="Arial"/>
              </a:rPr>
              <a:t>NEW-IG members pay annual fees according to company siz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194c84"/>
              </a:solidFill>
              <a:latin typeface="Arial"/>
            </a:endParaRPr>
          </a:p>
          <a:p>
            <a:pPr marL="126720" indent="-12672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194c84"/>
              </a:solidFill>
              <a:latin typeface="Arial"/>
            </a:endParaRPr>
          </a:p>
          <a:p>
            <a:pPr marL="126720" indent="-126720"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194c84"/>
              </a:solidFill>
              <a:latin typeface="Arial"/>
            </a:endParaRPr>
          </a:p>
          <a:p>
            <a:pPr marL="126720" indent="-126720"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194c84"/>
              </a:solidFill>
              <a:latin typeface="Arial"/>
            </a:endParaRPr>
          </a:p>
          <a:p>
            <a:pPr marL="126720" indent="-126720"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194c84"/>
              </a:solidFill>
              <a:latin typeface="Arial"/>
            </a:endParaRPr>
          </a:p>
          <a:p>
            <a:pPr marL="126720" indent="-126720"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194c84"/>
              </a:solidFill>
              <a:latin typeface="Arial"/>
            </a:endParaRPr>
          </a:p>
          <a:p>
            <a:pPr marL="126720" indent="-126720"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194c84"/>
              </a:solidFill>
              <a:latin typeface="Arial"/>
            </a:endParaRPr>
          </a:p>
          <a:p>
            <a:pPr marL="126720" indent="-126720"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194c84"/>
              </a:solidFill>
              <a:latin typeface="Arial"/>
            </a:endParaRPr>
          </a:p>
          <a:p>
            <a:pPr marL="126720" indent="-126720"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194c84"/>
              </a:solidFill>
              <a:latin typeface="Arial"/>
            </a:endParaRPr>
          </a:p>
          <a:p>
            <a:pPr marL="126720" indent="-126720"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194c84"/>
              </a:solidFill>
              <a:latin typeface="Arial"/>
            </a:endParaRPr>
          </a:p>
          <a:p>
            <a:pPr marL="126720" indent="-126720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10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DC77-D464-4AA2-AB97-24601F7DD41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395280" y="5199120"/>
            <a:ext cx="828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For the purposes of this provision, the definition of small and micro-enterprises is the one provided by the EU La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47640" y="2637000"/>
          <a:ext cx="7777080" cy="2408040"/>
        </p:xfrm>
        <a:graphic>
          <a:graphicData uri="http://schemas.openxmlformats.org/drawingml/2006/table">
            <a:tbl>
              <a:tblPr/>
              <a:tblGrid>
                <a:gridCol w="2233800"/>
                <a:gridCol w="2950920"/>
                <a:gridCol w="259236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ny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nual member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ti-annual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mber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3-year commitment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uced annual fe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00 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00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300 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0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450 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00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800 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00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09" name="Rectangle 1"/>
          <p:cNvSpPr/>
          <p:nvPr/>
        </p:nvSpPr>
        <p:spPr>
          <a:xfrm>
            <a:off x="746280" y="566100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mbers can further </a:t>
            </a:r>
            <a:r>
              <a:rPr b="1" lang="en-GB" sz="1800" spc="-1" strike="noStrike">
                <a:solidFill>
                  <a:srgbClr val="0070c0"/>
                </a:solidFill>
                <a:latin typeface="Arial"/>
              </a:rPr>
              <a:t>reduce their fees up to 50%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ared to standard annual rates by referring new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09600" y="-9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500" spc="-1" strike="noStrike">
                <a:solidFill>
                  <a:srgbClr val="ffffff"/>
                </a:solidFill>
                <a:latin typeface="Arial"/>
              </a:rPr>
              <a:t>How to apply?</a:t>
            </a:r>
            <a:endParaRPr b="0" lang="en-US" sz="35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42880" y="177300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51"/>
              </a:spcBef>
              <a:buClr>
                <a:srgbClr val="194c84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194c84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499"/>
              </a:spcBef>
              <a:buClr>
                <a:srgbClr val="194c84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Arial"/>
              </a:rPr>
              <a:t>Go to NEW-IG or N.ERGHY website and consult documents (especially Bylaws &amp; Internal Rules)</a:t>
            </a:r>
            <a:endParaRPr b="0" lang="en-US" sz="2000" spc="-1" strike="noStrike">
              <a:solidFill>
                <a:srgbClr val="194c84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499"/>
              </a:spcBef>
              <a:buClr>
                <a:srgbClr val="194c84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Arial"/>
              </a:rPr>
              <a:t>Complete an application form (available from website)</a:t>
            </a:r>
            <a:endParaRPr b="0" lang="en-US" sz="2000" spc="-1" strike="noStrike">
              <a:solidFill>
                <a:srgbClr val="194c84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499"/>
              </a:spcBef>
              <a:buClr>
                <a:srgbClr val="194c84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Arial"/>
              </a:rPr>
              <a:t>Send together with signed Bylaws to the relevant Secretariat</a:t>
            </a:r>
            <a:endParaRPr b="0" lang="en-US" sz="2000" spc="-1" strike="noStrike">
              <a:solidFill>
                <a:srgbClr val="194c84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499"/>
              </a:spcBef>
              <a:buClr>
                <a:srgbClr val="194c84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Arial"/>
              </a:rPr>
              <a:t>Contact us if any questions:</a:t>
            </a:r>
            <a:endParaRPr b="0" lang="en-US" sz="20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0BB1-83C7-4031-8D9D-1718F3F040C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"/>
          <p:cNvSpPr/>
          <p:nvPr/>
        </p:nvSpPr>
        <p:spPr>
          <a:xfrm>
            <a:off x="468360" y="5084640"/>
            <a:ext cx="4032360" cy="12351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b050"/>
                </a:solidFill>
                <a:latin typeface="Arial"/>
              </a:rPr>
              <a:t>NEW-IG Secretaria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venue Marnix 23, 1000 Brussels, Belgium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el: +32 2 540 87 7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mail: secretariat@new-ig.eu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Website: www.new-ig.eu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4716360" y="5084640"/>
            <a:ext cx="4032360" cy="12351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b050"/>
                </a:solidFill>
                <a:latin typeface="Arial"/>
              </a:rPr>
              <a:t>N.ERGHY Secretaria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Rue du Trône 98, 1050 Brussels, Belgium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el: +32 2 500 08 47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mail: secretariat@nerghy.eu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Website: www.nerghy.eu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E5AA-EC2F-4F56-8E98-E7E76839D74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539640" y="1989000"/>
            <a:ext cx="8136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206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500" spc="-1" strike="noStrike">
                <a:solidFill>
                  <a:srgbClr val="002060"/>
                </a:solidFill>
                <a:latin typeface="Arial"/>
              </a:rPr>
              <a:t>About NEW-IG and N.ERGH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500" spc="-1" strike="noStrike">
                <a:solidFill>
                  <a:srgbClr val="002060"/>
                </a:solidFill>
                <a:latin typeface="Arial"/>
              </a:rPr>
              <a:t>Role in system &amp; key benefits of membershi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500" spc="-1" strike="noStrike">
                <a:solidFill>
                  <a:srgbClr val="002060"/>
                </a:solidFill>
                <a:latin typeface="Arial"/>
              </a:rPr>
              <a:t>Eligibility and fe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500" spc="-1" strike="noStrike">
                <a:solidFill>
                  <a:srgbClr val="002060"/>
                </a:solidFill>
                <a:latin typeface="Arial"/>
              </a:rPr>
              <a:t>How to app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500" spc="-1" strike="noStrike">
                <a:solidFill>
                  <a:srgbClr val="002060"/>
                </a:solidFill>
                <a:latin typeface="Arial"/>
              </a:rPr>
              <a:t>Contac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2843280" y="115920"/>
            <a:ext cx="6121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500" spc="-1" strike="noStrike">
                <a:solidFill>
                  <a:srgbClr val="ffffff"/>
                </a:solidFill>
                <a:latin typeface="Arial"/>
              </a:rPr>
              <a:t>Presentation Outlin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5"/>
          <p:cNvSpPr/>
          <p:nvPr/>
        </p:nvSpPr>
        <p:spPr>
          <a:xfrm>
            <a:off x="223920" y="1434960"/>
            <a:ext cx="5683320" cy="5203800"/>
          </a:xfrm>
          <a:prstGeom prst="rect">
            <a:avLst/>
          </a:prstGeom>
          <a:solidFill>
            <a:srgbClr val="dce6f2"/>
          </a:solidFill>
          <a:ln w="38160">
            <a:solidFill>
              <a:srgbClr val="0070c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3"/>
          <p:cNvSpPr/>
          <p:nvPr/>
        </p:nvSpPr>
        <p:spPr>
          <a:xfrm>
            <a:off x="2205000" y="2184480"/>
            <a:ext cx="1700280" cy="1262160"/>
          </a:xfrm>
          <a:prstGeom prst="rect">
            <a:avLst/>
          </a:prstGeom>
          <a:solidFill>
            <a:srgbClr val="ffffff"/>
          </a:solidFill>
          <a:ln w="442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2195640" y="0"/>
            <a:ext cx="6948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A strong European public-private partnership with a focused objec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2647800" y="2259000"/>
            <a:ext cx="768600" cy="4809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2230560" y="2766960"/>
            <a:ext cx="1692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  <a:ea typeface="MS PGothic"/>
              </a:rPr>
              <a:t>European Union 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MS PGothic"/>
              </a:rPr>
              <a:t>represented by the European Commissio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420840" y="6116760"/>
            <a:ext cx="534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184b8a"/>
                </a:solidFill>
                <a:latin typeface="Arial Narrow"/>
                <a:ea typeface="MS PGothic"/>
              </a:rPr>
              <a:t>The Joint Undertaking is managed by a </a:t>
            </a:r>
            <a:r>
              <a:rPr b="1" lang="en-GB" sz="1300" spc="-1" strike="noStrike" u="sng">
                <a:solidFill>
                  <a:srgbClr val="184b8a"/>
                </a:solidFill>
                <a:uFillTx/>
                <a:latin typeface="Arial Narrow"/>
                <a:ea typeface="MS PGothic"/>
              </a:rPr>
              <a:t>Governing Board</a:t>
            </a:r>
            <a:r>
              <a:rPr b="1" lang="en-GB" sz="1300" spc="-1" strike="noStrike">
                <a:solidFill>
                  <a:srgbClr val="184b8a"/>
                </a:solidFill>
                <a:latin typeface="Arial Narrow"/>
                <a:ea typeface="MS PGothic"/>
              </a:rPr>
              <a:t> </a:t>
            </a:r>
            <a:r>
              <a:rPr b="0" lang="en-GB" sz="1300" spc="-1" strike="noStrike">
                <a:solidFill>
                  <a:srgbClr val="184b8a"/>
                </a:solidFill>
                <a:latin typeface="Arial Narrow"/>
                <a:ea typeface="MS PGothic"/>
              </a:rPr>
              <a:t>composed of representatives of all three partners and lead by the Industry</a:t>
            </a:r>
            <a:r>
              <a:rPr b="0" lang="en-GB" sz="1500" spc="-1" strike="noStrike">
                <a:solidFill>
                  <a:srgbClr val="184b8a"/>
                </a:solidFill>
                <a:latin typeface="Arial Narrow"/>
                <a:ea typeface="MS PGothic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6816600" y="1943280"/>
            <a:ext cx="2049480" cy="4601520"/>
          </a:xfrm>
          <a:prstGeom prst="rect">
            <a:avLst/>
          </a:prstGeom>
          <a:solidFill>
            <a:srgbClr val="dce6f2"/>
          </a:solidFill>
          <a:ln w="38160">
            <a:solidFill>
              <a:srgbClr val="0070c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 bring to the point of market readiness 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rtfolio of clean, efficient and competitive solution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ased on fuel cells and hydrogen technologies in energy and 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5e"/>
              </a:buClr>
              <a:buSzPct val="5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1"/>
          <p:cNvSpPr/>
          <p:nvPr/>
        </p:nvSpPr>
        <p:spPr>
          <a:xfrm>
            <a:off x="331920" y="1612800"/>
            <a:ext cx="54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Arial"/>
              </a:rPr>
              <a:t>Fuel Cells &amp; Hydrogen 2 Joint Undert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iped Right Arrow 18"/>
          <p:cNvSpPr/>
          <p:nvPr/>
        </p:nvSpPr>
        <p:spPr>
          <a:xfrm>
            <a:off x="5999040" y="3127320"/>
            <a:ext cx="876600" cy="2157480"/>
          </a:xfrm>
          <a:custGeom>
            <a:avLst/>
            <a:gdLst/>
            <a:ahLst/>
            <a:rect l="l" t="t" r="r" b="b"/>
            <a:pathLst>
              <a:path w="876300" h="2157413">
                <a:moveTo>
                  <a:pt x="0" y="539353"/>
                </a:moveTo>
                <a:lnTo>
                  <a:pt x="27384" y="539353"/>
                </a:lnTo>
                <a:lnTo>
                  <a:pt x="27384" y="1618060"/>
                </a:lnTo>
                <a:lnTo>
                  <a:pt x="0" y="1618060"/>
                </a:lnTo>
                <a:lnTo>
                  <a:pt x="0" y="539353"/>
                </a:lnTo>
                <a:close/>
                <a:moveTo>
                  <a:pt x="54769" y="539353"/>
                </a:moveTo>
                <a:lnTo>
                  <a:pt x="109538" y="539353"/>
                </a:lnTo>
                <a:lnTo>
                  <a:pt x="109538" y="1618060"/>
                </a:lnTo>
                <a:lnTo>
                  <a:pt x="54769" y="1618060"/>
                </a:lnTo>
                <a:lnTo>
                  <a:pt x="54769" y="539353"/>
                </a:lnTo>
                <a:close/>
                <a:moveTo>
                  <a:pt x="136922" y="539353"/>
                </a:moveTo>
                <a:lnTo>
                  <a:pt x="448709" y="539353"/>
                </a:lnTo>
                <a:lnTo>
                  <a:pt x="448709" y="0"/>
                </a:lnTo>
                <a:lnTo>
                  <a:pt x="876300" y="1078707"/>
                </a:lnTo>
                <a:lnTo>
                  <a:pt x="448709" y="2157413"/>
                </a:lnTo>
                <a:lnTo>
                  <a:pt x="448709" y="1618060"/>
                </a:lnTo>
                <a:lnTo>
                  <a:pt x="136922" y="1618060"/>
                </a:lnTo>
                <a:lnTo>
                  <a:pt x="136922" y="53935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3"/>
          <p:cNvSpPr/>
          <p:nvPr/>
        </p:nvSpPr>
        <p:spPr>
          <a:xfrm>
            <a:off x="392040" y="2181240"/>
            <a:ext cx="1698840" cy="1262160"/>
          </a:xfrm>
          <a:prstGeom prst="rect">
            <a:avLst/>
          </a:prstGeom>
          <a:solidFill>
            <a:srgbClr val="ffffff"/>
          </a:solidFill>
          <a:ln w="442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4"/>
          <p:cNvSpPr/>
          <p:nvPr/>
        </p:nvSpPr>
        <p:spPr>
          <a:xfrm>
            <a:off x="4003560" y="2190600"/>
            <a:ext cx="1698840" cy="1262160"/>
          </a:xfrm>
          <a:prstGeom prst="rect">
            <a:avLst/>
          </a:prstGeom>
          <a:solidFill>
            <a:srgbClr val="ffffff"/>
          </a:solidFill>
          <a:ln w="442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1" descr="M:\2011\Clients\NEW IG\Communications\Logos\NEW-IG logo small.jpg"/>
          <p:cNvPicPr/>
          <p:nvPr/>
        </p:nvPicPr>
        <p:blipFill>
          <a:blip r:embed="rId2"/>
          <a:stretch/>
        </p:blipFill>
        <p:spPr>
          <a:xfrm>
            <a:off x="704880" y="2335320"/>
            <a:ext cx="1058760" cy="404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353880" y="2851200"/>
            <a:ext cx="1756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b050"/>
                </a:solidFill>
                <a:latin typeface="Arial"/>
                <a:ea typeface="MS PGothic"/>
              </a:rPr>
              <a:t>Industry Group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b050"/>
                </a:solidFill>
                <a:latin typeface="Arial"/>
                <a:ea typeface="MS PGothic"/>
              </a:rPr>
              <a:t>NEW-I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b050"/>
                </a:solidFill>
                <a:latin typeface="Arial"/>
                <a:ea typeface="MS PGothic"/>
              </a:rPr>
              <a:t>76 memb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998880" y="2851200"/>
            <a:ext cx="1755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b050"/>
                </a:solidFill>
                <a:latin typeface="Arial"/>
                <a:ea typeface="MS PGothic"/>
              </a:rPr>
              <a:t>Research Grouping N.ERGH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b050"/>
                </a:solidFill>
                <a:latin typeface="Arial"/>
                <a:ea typeface="MS PGothic"/>
              </a:rPr>
              <a:t>59 memb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Isosceles Triangle 41"/>
          <p:cNvSpPr/>
          <p:nvPr/>
        </p:nvSpPr>
        <p:spPr>
          <a:xfrm rot="10800000">
            <a:off x="802800" y="3456000"/>
            <a:ext cx="878040" cy="3254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9360">
            <a:solidFill>
              <a:srgbClr val="00b0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Isosceles Triangle 42"/>
          <p:cNvSpPr/>
          <p:nvPr/>
        </p:nvSpPr>
        <p:spPr>
          <a:xfrm rot="10800000">
            <a:off x="4414320" y="3471840"/>
            <a:ext cx="878040" cy="3096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9360">
            <a:solidFill>
              <a:srgbClr val="00b0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8" descr=""/>
          <p:cNvPicPr/>
          <p:nvPr/>
        </p:nvPicPr>
        <p:blipFill>
          <a:blip r:embed="rId3"/>
          <a:stretch/>
        </p:blipFill>
        <p:spPr>
          <a:xfrm>
            <a:off x="407880" y="3801960"/>
            <a:ext cx="2687760" cy="2171880"/>
          </a:xfrm>
          <a:prstGeom prst="rect">
            <a:avLst/>
          </a:prstGeom>
          <a:ln w="19080">
            <a:solidFill>
              <a:srgbClr val="00b050"/>
            </a:solidFill>
            <a:miter/>
          </a:ln>
        </p:spPr>
      </p:pic>
      <p:pic>
        <p:nvPicPr>
          <p:cNvPr id="74" name="Picture 78" descr="N"/>
          <p:cNvPicPr/>
          <p:nvPr/>
        </p:nvPicPr>
        <p:blipFill>
          <a:blip r:embed="rId4"/>
          <a:stretch/>
        </p:blipFill>
        <p:spPr>
          <a:xfrm>
            <a:off x="4313160" y="2297160"/>
            <a:ext cx="1076400" cy="466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5"/>
          <a:stretch/>
        </p:blipFill>
        <p:spPr>
          <a:xfrm>
            <a:off x="3138480" y="3801960"/>
            <a:ext cx="2631960" cy="217188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sp>
        <p:nvSpPr>
          <p:cNvPr id="7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6F29-E8BF-4FCB-AE17-0283A60D78D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Diagram 5" descr=""/>
          <p:cNvPicPr/>
          <p:nvPr/>
        </p:nvPicPr>
        <p:blipFill>
          <a:blip r:embed="rId1"/>
          <a:stretch/>
        </p:blipFill>
        <p:spPr>
          <a:xfrm>
            <a:off x="324000" y="2000160"/>
            <a:ext cx="8582040" cy="46864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1908000" y="115920"/>
            <a:ext cx="705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ffff"/>
                </a:solidFill>
                <a:latin typeface="Arial"/>
              </a:rPr>
              <a:t>Industry &amp; research in FCH 2 JU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1"/>
          <p:cNvSpPr/>
          <p:nvPr/>
        </p:nvSpPr>
        <p:spPr>
          <a:xfrm>
            <a:off x="6575400" y="64450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7ED4-EE04-4043-9569-425FA14D544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"/>
          <p:cNvSpPr/>
          <p:nvPr/>
        </p:nvSpPr>
        <p:spPr>
          <a:xfrm>
            <a:off x="345960" y="1344600"/>
            <a:ext cx="3505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500" spc="-1" strike="noStrike">
                <a:solidFill>
                  <a:srgbClr val="0070c0"/>
                </a:solidFill>
                <a:latin typeface="Arial"/>
              </a:rPr>
              <a:t>Playing a key role</a:t>
            </a:r>
            <a:r>
              <a:rPr b="1" lang="en-GB" sz="2500" spc="-1" strike="noStrike">
                <a:solidFill>
                  <a:srgbClr val="0070c0"/>
                </a:solidFill>
                <a:latin typeface="Arial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09600" y="-9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Membership access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2425320"/>
            <a:ext cx="84358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194c8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200" spc="-1" strike="noStrike" u="sng">
                <a:solidFill>
                  <a:srgbClr val="00b050"/>
                </a:solidFill>
                <a:uFillTx/>
                <a:latin typeface="Arial"/>
              </a:rPr>
              <a:t>Membership in both Groupings is open and transparent</a:t>
            </a:r>
            <a:endParaRPr b="0" lang="en-US" sz="2200" spc="-1" strike="noStrike">
              <a:solidFill>
                <a:srgbClr val="194c84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194c8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194c84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194c8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194c84"/>
                </a:solidFill>
                <a:latin typeface="Arial"/>
              </a:rPr>
              <a:t>All information available on </a:t>
            </a:r>
            <a:r>
              <a:rPr b="0" lang="en-GB" sz="2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new-ig.eu</a:t>
            </a:r>
            <a:r>
              <a:rPr b="0" lang="en-GB" sz="2200" spc="-1" strike="noStrike">
                <a:solidFill>
                  <a:srgbClr val="194c84"/>
                </a:solidFill>
                <a:latin typeface="Arial"/>
              </a:rPr>
              <a:t> and </a:t>
            </a:r>
            <a:r>
              <a:rPr b="0" lang="en-GB" sz="2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nerghy.eu</a:t>
            </a:r>
            <a:r>
              <a:rPr b="0" lang="en-GB" sz="2200" spc="-1" strike="noStrike">
                <a:solidFill>
                  <a:srgbClr val="194c84"/>
                </a:solidFill>
                <a:latin typeface="Arial"/>
              </a:rPr>
              <a:t> (eligibility, statutes, internal rules etc.)</a:t>
            </a:r>
            <a:endParaRPr b="0" lang="en-US" sz="2200" spc="-1" strike="noStrike">
              <a:solidFill>
                <a:srgbClr val="194c84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194c8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194c84"/>
                </a:solidFill>
                <a:latin typeface="Arial"/>
              </a:rPr>
              <a:t>Great opportunities for both large organisations as well as </a:t>
            </a:r>
            <a:r>
              <a:rPr b="1" lang="en-GB" sz="2200" spc="-1" strike="noStrike" u="sng">
                <a:solidFill>
                  <a:srgbClr val="194c84"/>
                </a:solidFill>
                <a:uFillTx/>
                <a:latin typeface="Arial"/>
              </a:rPr>
              <a:t>SMEs</a:t>
            </a:r>
            <a:r>
              <a:rPr b="0" lang="en-GB" sz="2200" spc="-1" strike="noStrike">
                <a:solidFill>
                  <a:srgbClr val="194c84"/>
                </a:solidFill>
                <a:latin typeface="Arial"/>
              </a:rPr>
              <a:t> (50% membership of NEW-IG, guaranteed seat in governance of the programme)</a:t>
            </a:r>
            <a:endParaRPr b="0" lang="en-US" sz="2200" spc="-1" strike="noStrike">
              <a:solidFill>
                <a:srgbClr val="194c84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194c8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194c84"/>
                </a:solidFill>
                <a:latin typeface="Arial"/>
              </a:rPr>
              <a:t>Non-prohibitive fees, discounts for long-term members and those who refer new members</a:t>
            </a:r>
            <a:endParaRPr b="0" lang="en-US" sz="2200" spc="-1" strike="noStrike">
              <a:solidFill>
                <a:srgbClr val="194c84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194c8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200" spc="-1" strike="noStrike">
                <a:solidFill>
                  <a:srgbClr val="194c84"/>
                </a:solidFill>
                <a:latin typeface="Arial"/>
              </a:rPr>
              <a:t>FCH 2 JU objective: support participation of new members!</a:t>
            </a:r>
            <a:endParaRPr b="0" lang="en-US" sz="2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CFEE-96C3-41E9-A160-05C557828E8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09600" y="-9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N.ERGHY Membership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8901-E706-45AC-AB26-72AFB951B2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hteck 4"/>
          <p:cNvSpPr/>
          <p:nvPr/>
        </p:nvSpPr>
        <p:spPr>
          <a:xfrm>
            <a:off x="352440" y="1981080"/>
            <a:ext cx="8540640" cy="41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b050"/>
                </a:solidFill>
                <a:latin typeface="Arial"/>
              </a:rPr>
              <a:t>Simple eligibility criteria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ublic research organisation or universi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; “public” means organisations funded by national or local governments at a rate of at least 33 % of their exp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nd/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n-profit organisa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linked by affiliation or substantial contractual links to industry (including companies represented in the Industry Group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mbership is further open to any kind of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mbrella organisa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the entities described above, provided it is legally constituted and has legal capacity under its national la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09600" y="-9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NEW-IG Membership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13EA-E2D5-4638-88B6-EB2C00E5BE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hteck 4"/>
          <p:cNvSpPr/>
          <p:nvPr/>
        </p:nvSpPr>
        <p:spPr>
          <a:xfrm>
            <a:off x="352440" y="1981080"/>
            <a:ext cx="8540640" cy="42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b050"/>
                </a:solidFill>
                <a:latin typeface="Arial"/>
              </a:rPr>
              <a:t>Simple eligibility criteria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ie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tablish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 a Member State of the European Union or (ii) companies having their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ed offic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central or principal business location within a State (i) which is a contracting party to the European Economic Area Agreement or (ii) which is an Associated or Candidate Country to the EU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ies with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levant activitie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R&amp;D, demonstration, industrialization or deployment of hydrogen and fuel cells and/or with concrete plans to do so in the near future within the European Union or the European Economic Are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ie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haring and supporting the objective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the FCH (2) J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The NEW-IG Board decides on membership applications following an eligibility che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68360" y="1267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1800" indent="-3618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8000"/>
              </a:solidFill>
              <a:latin typeface="Arial"/>
            </a:endParaRPr>
          </a:p>
          <a:p>
            <a:pPr lvl="1" marL="361800" indent="-3618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8000"/>
              </a:solidFill>
              <a:latin typeface="Arial"/>
            </a:endParaRPr>
          </a:p>
          <a:p>
            <a:pPr lvl="1" marL="361800" indent="-361800">
              <a:lnSpc>
                <a:spcPct val="100000"/>
              </a:lnSpc>
              <a:buClr>
                <a:srgbClr val="0070c0"/>
              </a:buClr>
              <a:buSzPct val="15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(Body)"/>
              </a:rPr>
              <a:t>Secretariats based in Brussels</a:t>
            </a:r>
            <a:r>
              <a:rPr b="0" lang="en-US" sz="1800" spc="-1" strike="noStrike">
                <a:solidFill>
                  <a:srgbClr val="000000"/>
                </a:solidFill>
                <a:latin typeface="Arial (Body)"/>
              </a:rPr>
              <a:t>, the center of European decision-making and close the FCH 2 JU Programme Office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  <a:p>
            <a:pPr lvl="1" marL="361800" indent="-361800">
              <a:lnSpc>
                <a:spcPct val="100000"/>
              </a:lnSpc>
              <a:buClr>
                <a:srgbClr val="0070c0"/>
              </a:buClr>
              <a:buSzPct val="15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  <a:p>
            <a:pPr lvl="1" marL="361800" indent="-361800">
              <a:buClr>
                <a:srgbClr val="0070c0"/>
              </a:buClr>
              <a:buSzPct val="15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ileged acces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nd insight in the activities of the FCH 2 JU and relevant EU developments (e.g. webinars, events, briefings)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  <a:p>
            <a:pPr lvl="1" marL="361800" indent="-361800">
              <a:buClr>
                <a:srgbClr val="0070c0"/>
              </a:buClr>
              <a:buSzPct val="15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  <a:p>
            <a:pPr lvl="1" marL="361800" indent="-361800">
              <a:lnSpc>
                <a:spcPct val="100000"/>
              </a:lnSpc>
              <a:buClr>
                <a:srgbClr val="0070c0"/>
              </a:buClr>
              <a:buSzPct val="15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(Body)"/>
              </a:rPr>
              <a:t>Up-to-date information</a:t>
            </a:r>
            <a:r>
              <a:rPr b="0" lang="en-US" sz="1800" spc="-1" strike="noStrike">
                <a:solidFill>
                  <a:srgbClr val="000000"/>
                </a:solidFill>
                <a:latin typeface="Arial (Body)"/>
              </a:rPr>
              <a:t> on global developments, activities and events relevant to the sector in weekly reports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  <a:p>
            <a:pPr lvl="1" marL="361800" indent="-361800">
              <a:lnSpc>
                <a:spcPct val="100000"/>
              </a:lnSpc>
              <a:buClr>
                <a:srgbClr val="0070c0"/>
              </a:buClr>
              <a:buSzPct val="15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  <a:p>
            <a:pPr lvl="1" marL="361800" indent="-361800">
              <a:lnSpc>
                <a:spcPct val="100000"/>
              </a:lnSpc>
              <a:buClr>
                <a:srgbClr val="0070c0"/>
              </a:buClr>
              <a:buSzPct val="15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(Body)"/>
              </a:rPr>
              <a:t>Tailored communication and advocacy </a:t>
            </a:r>
            <a:r>
              <a:rPr b="0" lang="fr-FR" sz="1800" spc="-1" strike="noStrike">
                <a:solidFill>
                  <a:srgbClr val="000000"/>
                </a:solidFill>
                <a:latin typeface="Arial (Body)"/>
              </a:rPr>
              <a:t>programme</a:t>
            </a:r>
            <a:r>
              <a:rPr b="1" lang="fr-FR" sz="1800" spc="-1" strike="noStrike">
                <a:solidFill>
                  <a:srgbClr val="000000"/>
                </a:solidFill>
                <a:latin typeface="Arial (Body)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 (Body)"/>
              </a:rPr>
              <a:t>vis-à-vis EU institutions, key decision-makers and other stakeholders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  <a:p>
            <a:pPr lvl="1" marL="361800" indent="-361800">
              <a:lnSpc>
                <a:spcPct val="100000"/>
              </a:lnSpc>
              <a:buClr>
                <a:srgbClr val="0070c0"/>
              </a:buClr>
              <a:buSzPct val="15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  <a:p>
            <a:pPr lvl="1" marL="361800" indent="-361800">
              <a:lnSpc>
                <a:spcPct val="100000"/>
              </a:lnSpc>
              <a:buClr>
                <a:srgbClr val="0070c0"/>
              </a:buClr>
              <a:buSzPct val="15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(Body)"/>
              </a:rPr>
              <a:t>Unique platform for knowledge sharing, exchange and networking </a:t>
            </a:r>
            <a:r>
              <a:rPr b="0" lang="en-US" sz="1800" spc="-1" strike="noStrike">
                <a:solidFill>
                  <a:srgbClr val="000000"/>
                </a:solidFill>
                <a:latin typeface="Arial (Body)"/>
              </a:rPr>
              <a:t>across various segments of the FCH industry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  <a:p>
            <a:pPr lvl="1" marL="361800" indent="-361800">
              <a:lnSpc>
                <a:spcPct val="100000"/>
              </a:lnSpc>
              <a:buClr>
                <a:srgbClr val="0070c0"/>
              </a:buClr>
              <a:buSzPct val="15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  <a:p>
            <a:pPr lvl="1" marL="361800" indent="-361800">
              <a:buClr>
                <a:srgbClr val="0070c0"/>
              </a:buClr>
              <a:buSzPct val="15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bership suppor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question handling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  <a:p>
            <a:pPr lvl="1" marL="361800" indent="-361800">
              <a:buClr>
                <a:srgbClr val="0070c0"/>
              </a:buClr>
              <a:buSzPct val="15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1" name="Title 1"/>
          <p:cNvSpPr/>
          <p:nvPr/>
        </p:nvSpPr>
        <p:spPr>
          <a:xfrm>
            <a:off x="1403280" y="-17136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rvices for me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6C79-3831-4DC4-AF3E-5D90D3EB7AD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09600" y="-9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300" spc="-1" strike="noStrike">
                <a:solidFill>
                  <a:srgbClr val="ffffff"/>
                </a:solidFill>
                <a:latin typeface="Arial"/>
              </a:rPr>
              <a:t>Become a member!</a:t>
            </a:r>
            <a:endParaRPr b="0" lang="en-US" sz="43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000" y="141264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4c8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600" spc="-1" strike="noStrike">
                <a:solidFill>
                  <a:srgbClr val="00b050"/>
                </a:solidFill>
                <a:latin typeface="Arial"/>
              </a:rPr>
              <a:t>Enjoy a range of benefits:</a:t>
            </a:r>
            <a:endParaRPr b="0" lang="en-US" sz="2600" spc="-1" strike="noStrike">
              <a:solidFill>
                <a:srgbClr val="194c84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70c0"/>
              </a:buClr>
              <a:buSzPct val="15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Shape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herent, long-term and business oriented development and demonstration programme for FCH technologies until 2024</a:t>
            </a:r>
            <a:endParaRPr b="0" lang="en-US" sz="1800" spc="-1" strike="noStrike">
              <a:solidFill>
                <a:srgbClr val="194c84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70c0"/>
              </a:buClr>
              <a:buSzPct val="15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Benefit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valuable resources made available through the collaboration of FCH 2 JU private and public partners</a:t>
            </a:r>
            <a:endParaRPr b="0" lang="en-US" sz="1800" spc="-1" strike="noStrike">
              <a:solidFill>
                <a:srgbClr val="194c84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70c0"/>
              </a:buClr>
              <a:buSzPct val="15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Access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support by benefiting from rules of participation applying to FCH 2 JU calls for proposals (“additional conditions”)</a:t>
            </a:r>
            <a:endParaRPr b="0" lang="en-US" sz="1800" spc="-1" strike="noStrike">
              <a:solidFill>
                <a:srgbClr val="194c84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70c0"/>
              </a:buClr>
              <a:buSzPct val="15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Network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potential business partners and interact with decision-makers and stakeholders at EU level</a:t>
            </a:r>
            <a:endParaRPr b="0" lang="en-US" sz="1800" spc="-1" strike="noStrike">
              <a:solidFill>
                <a:srgbClr val="194c84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70c0"/>
              </a:buClr>
              <a:buSzPct val="15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70c0"/>
                </a:solidFill>
                <a:latin typeface="Arial"/>
              </a:rPr>
              <a:t>Take advantag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services provided by NEW-IG &amp; N.ERGHY Secretariats</a:t>
            </a:r>
            <a:endParaRPr b="0" lang="en-US" sz="1800" spc="-1" strike="noStrike">
              <a:solidFill>
                <a:srgbClr val="194c84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4c8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9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9AEE-DCA9-498F-BC81-B47809831B5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15:00:44Z</dcterms:created>
  <dc:creator>atanami</dc:creator>
  <dc:description/>
  <dc:language>en-US</dc:language>
  <cp:lastModifiedBy>Delplancke Jean Luc ( FCH )</cp:lastModifiedBy>
  <dcterms:modified xsi:type="dcterms:W3CDTF">2014-07-11T12:04:41Z</dcterms:modified>
  <cp:revision>570</cp:revision>
  <dc:subject/>
  <dc:title>Slide 1</dc:title>
</cp:coreProperties>
</file>